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68F1-DBAA-4438-B7F6-A6424704F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E26A-FB17-488C-B92B-C36140F0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D033-1E9D-426D-A997-48DBCE87F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E859-1893-4971-8DE6-6F6F42DBE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45CC-6C41-4779-A25B-D5A4CCC2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E1BE-C603-41CD-AC56-55B518BF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BC03-A3ED-4DDF-920A-F1534B2A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E816-FB9C-48E5-9DCF-7C44BD37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D494-30A3-401B-84FB-822D450B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D0BF-65B7-48C3-87B5-5E5E9912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E405-F9F3-44E0-9347-77B37B26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6CCA-B927-4D57-A911-39868B86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9"/>
            </a:gs>
            <a:gs pos="100000">
              <a:srgbClr val="c5f4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50F0-9795-4C8A-8A8B-48EE90815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3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4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4.png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6.xml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9"/>
            </a:gs>
            <a:gs pos="100000">
              <a:srgbClr val="c5f4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0840" y="2454120"/>
            <a:ext cx="8280360" cy="233604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Book Antiqua"/>
              </a:rPr>
              <a:t>СТАТИЧЕСК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Book Antiqua"/>
              </a:rPr>
              <a:t>НЕОПРЕДЕЛИМЫЕ СИСТЕМ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9680" y="260280"/>
            <a:ext cx="828036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ru-RU" sz="5400" spc="-1" strike="noStrike">
                <a:solidFill>
                  <a:srgbClr val="333399"/>
                </a:solidFill>
                <a:latin typeface="New_Zelek"/>
              </a:rPr>
              <a:t>С</a:t>
            </a:r>
            <a:r>
              <a:rPr b="1" lang="ru-RU" sz="4400" spc="-1" strike="noStrike">
                <a:solidFill>
                  <a:srgbClr val="333399"/>
                </a:solidFill>
                <a:latin typeface="New_Zelek"/>
              </a:rPr>
              <a:t>ТРОИТЕЛЬНАЯ МЕХА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New_Zelek"/>
              </a:rPr>
              <a:t>Ч</a:t>
            </a:r>
            <a:r>
              <a:rPr b="1" lang="ru-RU" sz="4400" spc="-1" strike="noStrike">
                <a:solidFill>
                  <a:srgbClr val="333399"/>
                </a:solidFill>
                <a:latin typeface="New_Zelek"/>
              </a:rPr>
              <a:t>асть </a:t>
            </a:r>
            <a:r>
              <a:rPr b="1" lang="en-US" sz="5400" spc="-1" strike="noStrike">
                <a:solidFill>
                  <a:srgbClr val="333399"/>
                </a:solidFill>
                <a:latin typeface="New_Zelek"/>
              </a:rPr>
              <a:t>i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 rot="5400000">
            <a:off x="417240" y="176040"/>
            <a:ext cx="405000" cy="668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solidFill>
                <a:srgbClr val="993366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9640" y="371520"/>
            <a:ext cx="287280" cy="2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ВГ</a:t>
            </a:r>
            <a:endParaRPr b="1" lang="en-US" sz="1800" spc="1" strike="noStrike">
              <a:ln w="936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800" y="4975200"/>
            <a:ext cx="83883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n-US" sz="4400" spc="-1" strike="noStrike">
                <a:solidFill>
                  <a:srgbClr val="333399"/>
                </a:solidFill>
                <a:latin typeface="Book Antiqua"/>
              </a:rPr>
              <a:t>Линии влия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Book Antiqua"/>
              </a:rPr>
              <a:t>силовых факторов</a:t>
            </a:r>
            <a:r>
              <a:rPr b="1" lang="en-US" sz="2800" spc="-1" strike="noStrike">
                <a:solidFill>
                  <a:srgbClr val="333399"/>
                </a:solidFill>
                <a:latin typeface="Book Antiqua"/>
              </a:rPr>
              <a:t>  </a:t>
            </a:r>
            <a:r>
              <a:rPr b="1" lang="en-US" sz="4000" spc="-1" strike="noStrike">
                <a:solidFill>
                  <a:srgbClr val="333399"/>
                </a:solidFill>
                <a:latin typeface="Book Antiqua"/>
              </a:rPr>
              <a:t>в</a:t>
            </a:r>
            <a:r>
              <a:rPr b="1" lang="en-US" sz="2800" spc="-1" strike="noStrike">
                <a:solidFill>
                  <a:srgbClr val="333399"/>
                </a:solidFill>
                <a:latin typeface="Book Antiqua"/>
              </a:rPr>
              <a:t>  </a:t>
            </a:r>
            <a:r>
              <a:rPr b="1" lang="en-US" sz="4000" spc="-1" strike="noStrike">
                <a:solidFill>
                  <a:srgbClr val="333399"/>
                </a:solidFill>
                <a:latin typeface="Book Antiqua"/>
              </a:rPr>
              <a:t>статически неопределимых систе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9"/>
            </a:gs>
            <a:gs pos="100000">
              <a:srgbClr val="c5f4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22800" y="666720"/>
            <a:ext cx="28810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Статический  мет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71640" y="985680"/>
            <a:ext cx="1944720" cy="792360"/>
          </a:xfrm>
          <a:custGeom>
            <a:avLst/>
            <a:gdLst/>
            <a:ahLst/>
            <a:rect l="l" t="t" r="r" b="b"/>
            <a:pathLst>
              <a:path w="1225" h="499">
                <a:moveTo>
                  <a:pt x="0" y="499"/>
                </a:moveTo>
                <a:lnTo>
                  <a:pt x="0" y="0"/>
                </a:lnTo>
                <a:lnTo>
                  <a:pt x="1225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7300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a7"/>
                </a:solidFill>
                <a:latin typeface="Arial"/>
              </a:rPr>
              <a:t>...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80920" y="1779480"/>
            <a:ext cx="179640" cy="7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16360" y="876240"/>
            <a:ext cx="71280" cy="21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0920" y="1778040"/>
            <a:ext cx="17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71720" y="1182600"/>
            <a:ext cx="179280" cy="7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71720" y="1181160"/>
            <a:ext cx="17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63880" y="1004760"/>
            <a:ext cx="0" cy="1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09880" y="8762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74960" y="952560"/>
            <a:ext cx="61920" cy="65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31840" y="998640"/>
            <a:ext cx="61920" cy="65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31840" y="1141560"/>
            <a:ext cx="61920" cy="64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78080" y="6080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62120" y="900000"/>
            <a:ext cx="139680" cy="439920"/>
          </a:xfrm>
          <a:custGeom>
            <a:avLst/>
            <a:gdLst/>
            <a:ahLst/>
            <a:rect l="l" t="t" r="r" b="b"/>
            <a:pathLst>
              <a:path w="88" h="277">
                <a:moveTo>
                  <a:pt x="0" y="0"/>
                </a:moveTo>
                <a:lnTo>
                  <a:pt x="0" y="101"/>
                </a:lnTo>
                <a:lnTo>
                  <a:pt x="88" y="27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31800" y="1274760"/>
            <a:ext cx="118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71640" y="463680"/>
            <a:ext cx="0" cy="503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469800"/>
            <a:ext cx="0" cy="144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71640" y="523800"/>
            <a:ext cx="395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36800" y="2271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936360" y="482760"/>
            <a:ext cx="730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336320" y="485640"/>
            <a:ext cx="7308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338120" y="417600"/>
            <a:ext cx="71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2200" y="13953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6520" y="1058760"/>
            <a:ext cx="785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87640" y="1325520"/>
            <a:ext cx="31766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Кинематический мет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671600">
            <a:off x="6126120" y="85356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9830600">
            <a:off x="6138360" y="124740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32560" y="895320"/>
            <a:ext cx="792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56560" y="895320"/>
            <a:ext cx="1030320" cy="475200"/>
          </a:xfrm>
          <a:prstGeom prst="rect">
            <a:avLst/>
          </a:prstGeom>
          <a:gradFill rotWithShape="0">
            <a:gsLst>
              <a:gs pos="0">
                <a:srgbClr val="bbe0e3">
                  <a:alpha val="60392"/>
                </a:srgbClr>
              </a:gs>
              <a:gs pos="50000">
                <a:srgbClr val="ffffff">
                  <a:alpha val="62352"/>
                </a:srgbClr>
              </a:gs>
              <a:gs pos="100000">
                <a:srgbClr val="bbe0e3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Л.В.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83520" y="1014480"/>
            <a:ext cx="431640" cy="252360"/>
          </a:xfrm>
          <a:prstGeom prst="rightArrow">
            <a:avLst>
              <a:gd name="adj1" fmla="val 50000"/>
              <a:gd name="adj2" fmla="val 42760"/>
            </a:avLst>
          </a:prstGeom>
          <a:solidFill>
            <a:srgbClr val="bbe0e3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28840" y="363600"/>
            <a:ext cx="5545440" cy="5472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Использование статического метод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для построения линий влияния усилий в СН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8360" y="1700280"/>
            <a:ext cx="172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868560" y="824040"/>
                <a:ext cx="379908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,</m:t>
                            </m:r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 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</m:e>
                    </m:nary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03640" y="1798560"/>
            <a:ext cx="338436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ru-RU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снов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неизвестны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038480" y="1751040"/>
                <a:ext cx="9781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</m:e>
                    </m:bar>
                    <m:r>
                      <m:t xml:space="preserve"> 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6504120" y="1531800"/>
            <a:ext cx="1726920" cy="11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С –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П 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М –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56240" y="1628640"/>
            <a:ext cx="90720" cy="827280"/>
          </a:xfrm>
          <a:custGeom>
            <a:avLst/>
            <a:gdLst>
              <a:gd name="textAreaLeft" fmla="*/ 57960 w 90720"/>
              <a:gd name="textAreaRight" fmla="*/ 91080 w 90720"/>
              <a:gd name="textAreaTop" fmla="*/ 21240 h 827280"/>
              <a:gd name="textAreaBottom" fmla="*/ 806040 h 8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55920" y="2556000"/>
            <a:ext cx="4672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j,</a:t>
            </a:r>
            <a:r>
              <a:rPr b="1" i="1" lang="ru-RU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усилие в основной системе от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943040" y="1569960"/>
            <a:ext cx="179640" cy="1224000"/>
          </a:xfrm>
          <a:custGeom>
            <a:avLst/>
            <a:gdLst>
              <a:gd name="textAreaLeft" fmla="*/ 114840 w 179640"/>
              <a:gd name="textAreaRight" fmla="*/ 180000 w 1796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6200000">
            <a:off x="7583400" y="1799640"/>
            <a:ext cx="1801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ри грузе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 точ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с координатой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19520" y="3038400"/>
            <a:ext cx="4643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j,</a:t>
            </a:r>
            <a:r>
              <a:rPr b="1" i="1" lang="ru-RU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усилие в основной системе от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49440" y="1224000"/>
            <a:ext cx="1330560" cy="792000"/>
          </a:xfrm>
          <a:custGeom>
            <a:avLst/>
            <a:gdLst/>
            <a:ahLst/>
            <a:rect l="l" t="t" r="r" b="b"/>
            <a:pathLst>
              <a:path w="1270" h="726">
                <a:moveTo>
                  <a:pt x="1270" y="0"/>
                </a:moveTo>
                <a:cubicBezTo>
                  <a:pt x="1227" y="7"/>
                  <a:pt x="1110" y="10"/>
                  <a:pt x="1009" y="41"/>
                </a:cubicBezTo>
                <a:cubicBezTo>
                  <a:pt x="908" y="72"/>
                  <a:pt x="779" y="121"/>
                  <a:pt x="665" y="185"/>
                </a:cubicBezTo>
                <a:cubicBezTo>
                  <a:pt x="551" y="249"/>
                  <a:pt x="432" y="335"/>
                  <a:pt x="321" y="425"/>
                </a:cubicBezTo>
                <a:cubicBezTo>
                  <a:pt x="210" y="515"/>
                  <a:pt x="67" y="663"/>
                  <a:pt x="0" y="726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73320" y="2705040"/>
            <a:ext cx="312840" cy="3240"/>
          </a:xfrm>
          <a:custGeom>
            <a:avLst/>
            <a:gdLst/>
            <a:ahLst/>
            <a:rect l="l" t="t" r="r" b="b"/>
            <a:pathLst>
              <a:path w="197" h="2">
                <a:moveTo>
                  <a:pt x="197" y="2"/>
                </a:moveTo>
                <a:cubicBezTo>
                  <a:pt x="164" y="2"/>
                  <a:pt x="41" y="0"/>
                  <a:pt x="0" y="0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84480" y="3174840"/>
            <a:ext cx="623880" cy="1800"/>
          </a:xfrm>
          <a:custGeom>
            <a:avLst/>
            <a:gdLst/>
            <a:ahLst/>
            <a:rect l="l" t="t" r="r" b="b"/>
            <a:pathLst>
              <a:path w="393" h="1">
                <a:moveTo>
                  <a:pt x="393" y="0"/>
                </a:moveTo>
                <a:cubicBezTo>
                  <a:pt x="328" y="1"/>
                  <a:pt x="82" y="0"/>
                  <a:pt x="0" y="0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1920" y="3581280"/>
            <a:ext cx="2846160" cy="1839600"/>
          </a:xfrm>
          <a:prstGeom prst="rect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Линия влияния силов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фактора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получ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суммированием Л.В. эт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фактора в основной сист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ме МС</a:t>
            </a:r>
            <a:r>
              <a:rPr b="1" lang="ru-RU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/</a:t>
            </a:r>
            <a:r>
              <a:rPr b="1" lang="ru-RU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МП /</a:t>
            </a:r>
            <a:r>
              <a:rPr b="1" lang="ru-RU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СМ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линей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комбинации линий влия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сновных неизвест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используемого мет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69800" y="2077920"/>
                <a:ext cx="2548080" cy="16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,</m:t>
                            </m:r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Л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В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 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</m:e>
                            </m:d>
                            <m:r>
                              <m:t xml:space="preserve"> 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311040" y="5407200"/>
            <a:ext cx="28800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6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 Narrow"/>
              </a:rPr>
              <a:t>П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 Narrow"/>
              </a:rPr>
              <a:t>р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 Narrow"/>
              </a:rPr>
              <a:t>м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 Narrow"/>
              </a:rPr>
              <a:t>е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 Narrow"/>
              </a:rPr>
              <a:t>ч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 Narrow"/>
              </a:rPr>
              <a:t>н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 Narrow"/>
              </a:rPr>
              <a:t>я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6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1. В </a:t>
            </a:r>
            <a:r>
              <a:rPr b="1" lang="ru-RU" sz="1600" spc="-1" strike="noStrike">
                <a:solidFill>
                  <a:srgbClr val="cc0000"/>
                </a:solidFill>
                <a:latin typeface="Arial Narrow"/>
              </a:rPr>
              <a:t>ОСМП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Л.В.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j,</a:t>
            </a:r>
            <a:r>
              <a:rPr b="1" i="1" lang="ru-RU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локализо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вана на одном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двух элемент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ru-RU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исключение – Л.В.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6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2.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ри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1" lang="ru-RU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2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аналитическ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решение затруднительно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06920" y="335772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Численное решение в матричной фор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22720" y="3738600"/>
            <a:ext cx="316872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Сущность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– рассмотр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многовариантного  загру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СНС  единичным грузом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= 1</a:t>
            </a:r>
            <a:r>
              <a:rPr b="1" lang="de-DE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 конечном числе назнач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точек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, 2, …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19840" y="4148280"/>
            <a:ext cx="1944720" cy="792000"/>
          </a:xfrm>
          <a:custGeom>
            <a:avLst/>
            <a:gdLst/>
            <a:ahLst/>
            <a:rect l="l" t="t" r="r" b="b"/>
            <a:pathLst>
              <a:path w="1225" h="499">
                <a:moveTo>
                  <a:pt x="0" y="499"/>
                </a:moveTo>
                <a:lnTo>
                  <a:pt x="0" y="0"/>
                </a:lnTo>
                <a:lnTo>
                  <a:pt x="1225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29480" y="4941720"/>
            <a:ext cx="179280" cy="71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764560" y="4038480"/>
            <a:ext cx="71640" cy="216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29480" y="4940280"/>
            <a:ext cx="17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819920" y="4344840"/>
            <a:ext cx="179640" cy="7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912080" y="416736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58080" y="40384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723160" y="4114800"/>
            <a:ext cx="61920" cy="65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80400" y="4167360"/>
            <a:ext cx="61920" cy="64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57960" y="37544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470720" y="4062240"/>
            <a:ext cx="139680" cy="439920"/>
          </a:xfrm>
          <a:custGeom>
            <a:avLst/>
            <a:gdLst/>
            <a:ahLst/>
            <a:rect l="l" t="t" r="r" b="b"/>
            <a:pathLst>
              <a:path w="88" h="277">
                <a:moveTo>
                  <a:pt x="0" y="0"/>
                </a:moveTo>
                <a:lnTo>
                  <a:pt x="0" y="101"/>
                </a:lnTo>
                <a:lnTo>
                  <a:pt x="88" y="27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21680" y="4398840"/>
            <a:ext cx="1180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218360" y="3618000"/>
            <a:ext cx="71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16640" y="46134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67520" y="4559400"/>
            <a:ext cx="785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101080" y="38941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ff1f5"/>
                </a:solidFill>
                <a:latin typeface="Arial"/>
              </a:rPr>
              <a:t>...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823160" y="4340160"/>
            <a:ext cx="17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880400" y="4303800"/>
            <a:ext cx="61920" cy="65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94640" y="4888080"/>
            <a:ext cx="54000" cy="53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91400" y="473724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91400" y="4264200"/>
            <a:ext cx="54000" cy="53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1400" y="442260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1400" y="458460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91400" y="412416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07400" y="4121280"/>
            <a:ext cx="5364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29520" y="412128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45520" y="411804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61160" y="412128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883640" y="411804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83480" y="4724280"/>
            <a:ext cx="25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84920" y="4581360"/>
            <a:ext cx="25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6666840" y="43675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89680" y="41004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118280" y="410040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066160" y="412128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497800" y="412128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682120" y="411804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77120" y="4105440"/>
            <a:ext cx="53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539200" y="3878280"/>
            <a:ext cx="3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v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67000" y="4975200"/>
            <a:ext cx="568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рица (строка) влияния силового фактора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193920" y="5322960"/>
                <a:ext cx="414828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 </m:t>
                              </m:r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L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acc>
                                <m:accPr>
                                  <m:chr m:val="~"/>
                                </m:accPr>
                                <m:e>
                                  <m:r>
                                    <m:t xml:space="preserve">L</m:t>
                                  </m:r>
                                </m:e>
                              </m:acc>
                              <m:r>
                                <m:t xml:space="preserve">⋅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L</m:t>
                                  </m:r>
                                </m:e>
                                <m:sup>
                                  <m:r>
                                    <m:t xml:space="preserve">т</m:t>
                                  </m:r>
                                </m:sup>
                              </m:sSup>
                              <m:r>
                                <m:t xml:space="preserve">B</m:t>
                              </m:r>
                              <m:r>
                                <m:t xml:space="preserve">⋅</m:t>
                              </m:r>
                              <m:r>
                                <m:t xml:space="preserve">L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L</m:t>
                                  </m:r>
                                </m:e>
                                <m:sup>
                                  <m:r>
                                    <m:t xml:space="preserve">т</m:t>
                                  </m:r>
                                </m:sup>
                              </m:sSup>
                              <m:r>
                                <m:t xml:space="preserve">B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acc>
                                    <m:accPr>
                                      <m:chr m:val="~"/>
                                    </m:accPr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т</m:t>
                                  </m:r>
                                </m:sup>
                              </m:sSup>
                              <m:r>
                                <m:t xml:space="preserve">K</m:t>
                              </m:r>
                              <m:r>
                                <m:t xml:space="preserve">⋅</m:t>
                              </m:r>
                              <m:r>
                                <m:t xml:space="preserve">a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т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c</m:t>
                                  </m:r>
                                </m:e>
                                <m:sup>
                                  <m:r>
                                    <m:t xml:space="preserve">т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u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7280280" y="5373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о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методу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с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289640" y="5802480"/>
            <a:ext cx="1675080" cy="4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о мет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ереме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78760" y="409716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219800" y="41004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5240" y="619452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Аналогич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422600" y="6140520"/>
                <a:ext cx="273060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т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т</m:t>
                                </m:r>
                              </m:sup>
                            </m:sSubSup>
                            <m:r>
                              <m:t xml:space="preserve">…</m:t>
                            </m:r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т</m:t>
                                </m:r>
                              </m:sup>
                            </m:sSubSup>
                            <m:r>
                              <m:t xml:space="preserve">…</m:t>
                            </m:r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т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т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6989400" y="6102360"/>
            <a:ext cx="344520" cy="32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128" y="526"/>
                </a:moveTo>
                <a:arcTo wR="10800" hR="10800" stAng="-4323165" swAng="10600107"/>
                <a:lnTo>
                  <a:pt x="10800" y="10800"/>
                </a:lnTo>
                <a:close/>
              </a:path>
              <a:path fill="none" w="21600" h="21600">
                <a:moveTo>
                  <a:pt x="14128" y="526"/>
                </a:moveTo>
                <a:arcTo wR="10800" hR="10800" stAng="-4323165" swAng="10600107"/>
              </a:path>
            </a:pathLst>
          </a:custGeom>
          <a:noFill/>
          <a:ln w="50760">
            <a:solidFill>
              <a:srgbClr val="99cc00"/>
            </a:solidFill>
            <a:miter/>
            <a:headEnd len="sm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961320" y="6226200"/>
            <a:ext cx="194472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матрица влия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силовых факто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360"/>
                            </p:stCondLst>
                            <p:childTnLst>
                              <p:par>
                                <p:cTn id="2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720"/>
                            </p:stCondLst>
                            <p:childTnLst>
                              <p:par>
                                <p:cTn id="2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480"/>
                            </p:stCondLst>
                            <p:childTnLst>
                              <p:par>
                                <p:cTn id="2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760"/>
                            </p:stCondLst>
                            <p:childTnLst>
                              <p:par>
                                <p:cTn id="2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840"/>
                            </p:stCondLst>
                            <p:childTnLst>
                              <p:par>
                                <p:cTn id="3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640"/>
                            </p:stCondLst>
                            <p:childTnLst>
                              <p:par>
                                <p:cTn id="3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56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480"/>
                            </p:stCondLst>
                            <p:childTnLst>
                              <p:par>
                                <p:cTn id="3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280"/>
                            </p:stCondLst>
                            <p:childTnLst>
                              <p:par>
                                <p:cTn id="3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200"/>
                            </p:stCondLst>
                            <p:childTnLst>
                              <p:par>
                                <p:cTn id="3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8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000"/>
                            </p:stCondLst>
                            <p:childTnLst>
                              <p:par>
                                <p:cTn id="3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6840"/>
                            </p:stCondLst>
                            <p:childTnLst>
                              <p:par>
                                <p:cTn id="3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040"/>
                            </p:stCondLst>
                            <p:childTnLst>
                              <p:par>
                                <p:cTn id="3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880"/>
                            </p:stCondLst>
                            <p:childTnLst>
                              <p:par>
                                <p:cTn id="3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880"/>
                            </p:stCondLst>
                            <p:childTnLst>
                              <p:par>
                                <p:cTn id="3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960"/>
                            </p:stCondLst>
                            <p:childTnLst>
                              <p:par>
                                <p:cTn id="4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3840"/>
                            </p:stCondLst>
                            <p:childTnLst>
                              <p:par>
                                <p:cTn id="4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4880"/>
                            </p:stCondLst>
                            <p:childTnLst>
                              <p:par>
                                <p:cTn id="4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4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4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4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5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5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5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5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500"/>
                            </p:stCondLst>
                            <p:childTnLst>
                              <p:par>
                                <p:cTn id="4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7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500"/>
                            </p:stCondLst>
                            <p:childTnLst>
                              <p:par>
                                <p:cTn id="49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9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3000"/>
                            </p:stCondLst>
                            <p:childTnLst>
                              <p:par>
                                <p:cTn id="49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3500"/>
                            </p:stCondLst>
                            <p:childTnLst>
                              <p:par>
                                <p:cTn id="50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4000"/>
                            </p:stCondLst>
                            <p:childTnLst>
                              <p:par>
                                <p:cTn id="50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0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500"/>
                            </p:stCondLst>
                            <p:childTnLst>
                              <p:par>
                                <p:cTn id="50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0"/>
                            </p:stCondLst>
                            <p:childTnLst>
                              <p:par>
                                <p:cTn id="51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500"/>
                            </p:stCondLst>
                            <p:childTnLst>
                              <p:par>
                                <p:cTn id="51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6000"/>
                            </p:stCondLst>
                            <p:childTnLst>
                              <p:par>
                                <p:cTn id="52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2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6500"/>
                            </p:stCondLst>
                            <p:childTnLst>
                              <p:par>
                                <p:cTn id="52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7000"/>
                            </p:stCondLst>
                            <p:childTnLst>
                              <p:par>
                                <p:cTn id="52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7500"/>
                            </p:stCondLst>
                            <p:childTnLst>
                              <p:par>
                                <p:cTn id="53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8000"/>
                            </p:stCondLst>
                            <p:childTnLst>
                              <p:par>
                                <p:cTn id="53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8500"/>
                            </p:stCondLst>
                            <p:childTnLst>
                              <p:par>
                                <p:cTn id="54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9000"/>
                            </p:stCondLst>
                            <p:childTnLst>
                              <p:par>
                                <p:cTn id="54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9500"/>
                            </p:stCondLst>
                            <p:childTnLst>
                              <p:par>
                                <p:cTn id="54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6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6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1500"/>
                            </p:stCondLst>
                            <p:childTnLst>
                              <p:par>
                                <p:cTn id="56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6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6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2500"/>
                            </p:stCondLst>
                            <p:childTnLst>
                              <p:par>
                                <p:cTn id="57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7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7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8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3000"/>
                            </p:stCondLst>
                            <p:childTnLst>
                              <p:par>
                                <p:cTn id="5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4000"/>
                            </p:stCondLst>
                            <p:childTnLst>
                              <p:par>
                                <p:cTn id="5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480"/>
                            </p:stCondLst>
                            <p:childTnLst>
                              <p:par>
                                <p:cTn id="6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480"/>
                            </p:stCondLst>
                            <p:childTnLst>
                              <p:par>
                                <p:cTn id="61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1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2480"/>
                            </p:stCondLst>
                            <p:childTnLst>
                              <p:par>
                                <p:cTn id="6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9"/>
            </a:gs>
            <a:gs pos="100000">
              <a:srgbClr val="c5f4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65200" y="981000"/>
            <a:ext cx="36464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ш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е   м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   с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23840" y="4572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 р и м е р 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4360" y="1778040"/>
            <a:ext cx="3382920" cy="1440"/>
          </a:xfrm>
          <a:custGeom>
            <a:avLst/>
            <a:gdLst/>
            <a:ahLst/>
            <a:rect l="l" t="t" r="r" b="b"/>
            <a:pathLst>
              <a:path w="1225" h="1">
                <a:moveTo>
                  <a:pt x="0" y="0"/>
                </a:moveTo>
                <a:lnTo>
                  <a:pt x="1225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51080" y="7300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a7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ffffa7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8720" y="1670040"/>
            <a:ext cx="71640" cy="21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1989000"/>
            <a:ext cx="179280" cy="7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0" y="1987560"/>
            <a:ext cx="17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78160" y="1811160"/>
            <a:ext cx="0" cy="1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2240" y="16700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95680" y="1746360"/>
            <a:ext cx="61920" cy="64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346480" y="1792440"/>
            <a:ext cx="61920" cy="64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46480" y="1947960"/>
            <a:ext cx="61920" cy="65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81160" y="13953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28920" y="1700280"/>
            <a:ext cx="1440" cy="160200"/>
          </a:xfrm>
          <a:custGeom>
            <a:avLst/>
            <a:gdLst/>
            <a:ahLst/>
            <a:rect l="l" t="t" r="r" b="b"/>
            <a:pathLst>
              <a:path w="1" h="101">
                <a:moveTo>
                  <a:pt x="0" y="0"/>
                </a:moveTo>
                <a:lnTo>
                  <a:pt x="0" y="10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060800" y="1897200"/>
            <a:ext cx="0" cy="53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79360" y="1781280"/>
            <a:ext cx="0" cy="395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1400" y="2117880"/>
            <a:ext cx="503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89120" y="180648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36120" y="2079720"/>
            <a:ext cx="730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139400" y="2082960"/>
            <a:ext cx="730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41560" y="1249200"/>
            <a:ext cx="71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28840" y="363600"/>
            <a:ext cx="5545440" cy="5472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Использование статического метод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для построения линий влияния усилий в СН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3280" y="101916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37000" y="993600"/>
            <a:ext cx="288144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ш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е   м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 е р е м е щ е н и 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5720" y="1987560"/>
            <a:ext cx="179280" cy="7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5720" y="1986120"/>
            <a:ext cx="17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77880" y="180972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6200" y="1746360"/>
            <a:ext cx="61920" cy="64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46200" y="1946160"/>
            <a:ext cx="61920" cy="65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79600" y="2033640"/>
            <a:ext cx="0" cy="395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7880" y="2035080"/>
            <a:ext cx="0" cy="395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4640" y="2374920"/>
            <a:ext cx="3384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39360" y="2336760"/>
            <a:ext cx="7308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2338560" y="2340000"/>
            <a:ext cx="7272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025520" y="2343240"/>
            <a:ext cx="730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28920" y="2114640"/>
            <a:ext cx="846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8920" y="1909800"/>
            <a:ext cx="0" cy="252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624120" y="2114640"/>
            <a:ext cx="432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622680" y="1838160"/>
            <a:ext cx="0" cy="324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488600" y="2079720"/>
            <a:ext cx="730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344320" y="2082960"/>
            <a:ext cx="730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587400" y="2079720"/>
            <a:ext cx="730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019040" y="2082960"/>
            <a:ext cx="730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306440" y="2079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67200" y="20797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17560" y="1805040"/>
            <a:ext cx="5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27360" y="1819440"/>
            <a:ext cx="5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55840" y="1544760"/>
            <a:ext cx="315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06760" y="1335240"/>
            <a:ext cx="12952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.В. </a:t>
            </a:r>
            <a:r>
              <a:rPr b="1" i="1" lang="de-DE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4360" y="2930400"/>
            <a:ext cx="3382920" cy="1800"/>
          </a:xfrm>
          <a:custGeom>
            <a:avLst/>
            <a:gdLst/>
            <a:ahLst/>
            <a:rect l="l" t="t" r="r" b="b"/>
            <a:pathLst>
              <a:path w="1225" h="1">
                <a:moveTo>
                  <a:pt x="0" y="0"/>
                </a:moveTo>
                <a:lnTo>
                  <a:pt x="1225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068720" y="2822400"/>
            <a:ext cx="71640" cy="216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0" y="3141720"/>
            <a:ext cx="179280" cy="7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3139920"/>
            <a:ext cx="17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378160" y="2957400"/>
            <a:ext cx="0" cy="1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062240" y="28224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95680" y="2898720"/>
            <a:ext cx="61920" cy="65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346480" y="2897280"/>
            <a:ext cx="61920" cy="65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346480" y="3100320"/>
            <a:ext cx="61920" cy="65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11320" y="25336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47640" y="2820960"/>
            <a:ext cx="1800" cy="216000"/>
          </a:xfrm>
          <a:custGeom>
            <a:avLst/>
            <a:gdLst/>
            <a:ahLst/>
            <a:rect l="l" t="t" r="r" b="b"/>
            <a:pathLst>
              <a:path w="1" h="101">
                <a:moveTo>
                  <a:pt x="0" y="0"/>
                </a:moveTo>
                <a:lnTo>
                  <a:pt x="0" y="10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71720" y="2382840"/>
            <a:ext cx="71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85720" y="3139920"/>
            <a:ext cx="179280" cy="7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85720" y="3138480"/>
            <a:ext cx="17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77880" y="296244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6200" y="2898720"/>
            <a:ext cx="61920" cy="65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6200" y="3098880"/>
            <a:ext cx="61920" cy="65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74920" y="2665440"/>
            <a:ext cx="3157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4880" y="290196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290520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82520" y="290520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38240" y="290844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27120" y="290520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06880" y="290844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786040" y="290844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54360" y="290520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006800" y="290520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15960" y="2908440"/>
            <a:ext cx="2174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84240" y="2911320"/>
            <a:ext cx="2174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846440" y="2911320"/>
            <a:ext cx="2174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82840" y="2913120"/>
            <a:ext cx="2174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53960" y="2909880"/>
            <a:ext cx="217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679840" y="2914560"/>
            <a:ext cx="2174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105000" y="2916360"/>
            <a:ext cx="2178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557520" y="2914560"/>
            <a:ext cx="2174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9200" y="2911320"/>
            <a:ext cx="2174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057560" y="2890800"/>
            <a:ext cx="0" cy="53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74640" y="3178080"/>
            <a:ext cx="0" cy="252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71400" y="3368520"/>
            <a:ext cx="3384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636120" y="3330720"/>
            <a:ext cx="730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341080" y="3333600"/>
            <a:ext cx="7308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022280" y="3336840"/>
            <a:ext cx="7308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03400" y="3173400"/>
            <a:ext cx="0" cy="252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379600" y="3176640"/>
            <a:ext cx="0" cy="252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535040" y="3168720"/>
            <a:ext cx="0" cy="252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67040" y="3176640"/>
            <a:ext cx="0" cy="252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06560" y="3173400"/>
            <a:ext cx="0" cy="252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38560" y="3168720"/>
            <a:ext cx="0" cy="252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670200" y="3176640"/>
            <a:ext cx="0" cy="252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1061640" y="3332160"/>
            <a:ext cx="730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494000" y="3332160"/>
            <a:ext cx="7272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1925280" y="3333600"/>
            <a:ext cx="7308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771280" y="3330720"/>
            <a:ext cx="730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3203280" y="3330720"/>
            <a:ext cx="730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3634920" y="3332160"/>
            <a:ext cx="730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41240" y="3068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70000" y="3068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96960" y="3068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019240" y="3068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43320" y="306864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71720" y="3068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98680" y="3068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01880" y="3068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646360" y="255888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043720" y="2801880"/>
            <a:ext cx="288000" cy="28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776648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7766488"/>
              </a:path>
            </a:pathLst>
          </a:custGeom>
          <a:noFill/>
          <a:ln w="28440">
            <a:solidFill>
              <a:srgbClr val="cc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424240" y="2801880"/>
            <a:ext cx="288000" cy="28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776648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7766488"/>
              </a:path>
            </a:pathLst>
          </a:custGeom>
          <a:noFill/>
          <a:ln w="28440">
            <a:solidFill>
              <a:srgbClr val="cc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155680" y="244152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18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84360" y="1728720"/>
            <a:ext cx="109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I =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346480" y="2946240"/>
            <a:ext cx="61920" cy="65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1120" y="3684600"/>
            <a:ext cx="1700280" cy="500040"/>
          </a:xfrm>
          <a:custGeom>
            <a:avLst/>
            <a:gdLst/>
            <a:ahLst/>
            <a:rect l="l" t="t" r="r" b="b"/>
            <a:pathLst>
              <a:path w="1071" h="315">
                <a:moveTo>
                  <a:pt x="0" y="314"/>
                </a:moveTo>
                <a:lnTo>
                  <a:pt x="546" y="0"/>
                </a:lnTo>
                <a:lnTo>
                  <a:pt x="1071" y="315"/>
                </a:lnTo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4640" y="4187880"/>
            <a:ext cx="3382920" cy="1440"/>
          </a:xfrm>
          <a:custGeom>
            <a:avLst/>
            <a:gdLst/>
            <a:ahLst/>
            <a:rect l="l" t="t" r="r" b="b"/>
            <a:pathLst>
              <a:path w="1225" h="1">
                <a:moveTo>
                  <a:pt x="0" y="0"/>
                </a:moveTo>
                <a:lnTo>
                  <a:pt x="122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547640" y="3686040"/>
            <a:ext cx="0" cy="50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54200" y="3922560"/>
            <a:ext cx="142920" cy="14472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65120" y="3402000"/>
            <a:ext cx="48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56000" y="380988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.В. </a:t>
            </a:r>
            <a:r>
              <a:rPr b="1" i="1" lang="de-DE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Times New Roman"/>
              </a:rPr>
              <a:t>1,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564000" y="38037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в ОСМС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78160" y="3487680"/>
            <a:ext cx="0" cy="11509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66720" y="4635360"/>
            <a:ext cx="3390840" cy="252720"/>
          </a:xfrm>
          <a:custGeom>
            <a:avLst/>
            <a:gdLst/>
            <a:ahLst/>
            <a:rect l="l" t="t" r="r" b="b"/>
            <a:pathLst>
              <a:path w="2136" h="159">
                <a:moveTo>
                  <a:pt x="0" y="0"/>
                </a:moveTo>
                <a:cubicBezTo>
                  <a:pt x="23" y="10"/>
                  <a:pt x="99" y="47"/>
                  <a:pt x="144" y="65"/>
                </a:cubicBezTo>
                <a:cubicBezTo>
                  <a:pt x="189" y="83"/>
                  <a:pt x="219" y="95"/>
                  <a:pt x="272" y="109"/>
                </a:cubicBezTo>
                <a:cubicBezTo>
                  <a:pt x="325" y="123"/>
                  <a:pt x="397" y="141"/>
                  <a:pt x="460" y="149"/>
                </a:cubicBezTo>
                <a:cubicBezTo>
                  <a:pt x="523" y="157"/>
                  <a:pt x="593" y="159"/>
                  <a:pt x="652" y="157"/>
                </a:cubicBezTo>
                <a:cubicBezTo>
                  <a:pt x="711" y="155"/>
                  <a:pt x="765" y="149"/>
                  <a:pt x="816" y="137"/>
                </a:cubicBezTo>
                <a:cubicBezTo>
                  <a:pt x="867" y="125"/>
                  <a:pt x="917" y="107"/>
                  <a:pt x="960" y="85"/>
                </a:cubicBezTo>
                <a:cubicBezTo>
                  <a:pt x="1003" y="63"/>
                  <a:pt x="1032" y="41"/>
                  <a:pt x="1076" y="5"/>
                </a:cubicBezTo>
                <a:cubicBezTo>
                  <a:pt x="1132" y="25"/>
                  <a:pt x="1151" y="41"/>
                  <a:pt x="1192" y="53"/>
                </a:cubicBezTo>
                <a:cubicBezTo>
                  <a:pt x="1234" y="68"/>
                  <a:pt x="1282" y="84"/>
                  <a:pt x="1328" y="93"/>
                </a:cubicBezTo>
                <a:cubicBezTo>
                  <a:pt x="1374" y="102"/>
                  <a:pt x="1426" y="106"/>
                  <a:pt x="1468" y="109"/>
                </a:cubicBezTo>
                <a:cubicBezTo>
                  <a:pt x="1510" y="112"/>
                  <a:pt x="1541" y="112"/>
                  <a:pt x="1580" y="109"/>
                </a:cubicBezTo>
                <a:cubicBezTo>
                  <a:pt x="1619" y="106"/>
                  <a:pt x="1668" y="100"/>
                  <a:pt x="1704" y="93"/>
                </a:cubicBezTo>
                <a:cubicBezTo>
                  <a:pt x="1740" y="86"/>
                  <a:pt x="1764" y="79"/>
                  <a:pt x="1796" y="69"/>
                </a:cubicBezTo>
                <a:cubicBezTo>
                  <a:pt x="1828" y="59"/>
                  <a:pt x="1861" y="43"/>
                  <a:pt x="1896" y="33"/>
                </a:cubicBezTo>
                <a:cubicBezTo>
                  <a:pt x="1960" y="13"/>
                  <a:pt x="1973" y="14"/>
                  <a:pt x="2004" y="9"/>
                </a:cubicBezTo>
                <a:cubicBezTo>
                  <a:pt x="2035" y="4"/>
                  <a:pt x="2062" y="2"/>
                  <a:pt x="2084" y="1"/>
                </a:cubicBezTo>
                <a:cubicBezTo>
                  <a:pt x="2106" y="0"/>
                  <a:pt x="2125" y="1"/>
                  <a:pt x="2136" y="1"/>
                </a:cubicBezTo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103400" y="4641840"/>
            <a:ext cx="1440" cy="162000"/>
          </a:xfrm>
          <a:custGeom>
            <a:avLst/>
            <a:gdLst/>
            <a:ahLst/>
            <a:rect l="l" t="t" r="r" b="b"/>
            <a:pathLst>
              <a:path w="1" h="112">
                <a:moveTo>
                  <a:pt x="0" y="0"/>
                </a:moveTo>
                <a:lnTo>
                  <a:pt x="0" y="11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59120" y="4637160"/>
            <a:ext cx="1440" cy="216000"/>
          </a:xfrm>
          <a:custGeom>
            <a:avLst/>
            <a:gdLst/>
            <a:ahLst/>
            <a:rect l="l" t="t" r="r" b="b"/>
            <a:pathLst>
              <a:path w="1" h="112">
                <a:moveTo>
                  <a:pt x="0" y="0"/>
                </a:moveTo>
                <a:lnTo>
                  <a:pt x="0" y="11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808360" y="4632480"/>
            <a:ext cx="1440" cy="153720"/>
          </a:xfrm>
          <a:custGeom>
            <a:avLst/>
            <a:gdLst/>
            <a:ahLst/>
            <a:rect l="l" t="t" r="r" b="b"/>
            <a:pathLst>
              <a:path w="1" h="112">
                <a:moveTo>
                  <a:pt x="0" y="0"/>
                </a:moveTo>
                <a:lnTo>
                  <a:pt x="0" y="11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41800" y="4638600"/>
            <a:ext cx="1440" cy="154080"/>
          </a:xfrm>
          <a:custGeom>
            <a:avLst/>
            <a:gdLst/>
            <a:ahLst/>
            <a:rect l="l" t="t" r="r" b="b"/>
            <a:pathLst>
              <a:path w="1" h="112">
                <a:moveTo>
                  <a:pt x="0" y="0"/>
                </a:moveTo>
                <a:lnTo>
                  <a:pt x="0" y="11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672000" y="4640400"/>
            <a:ext cx="1440" cy="46080"/>
          </a:xfrm>
          <a:custGeom>
            <a:avLst/>
            <a:gdLst/>
            <a:ahLst/>
            <a:rect l="l" t="t" r="r" b="b"/>
            <a:pathLst>
              <a:path w="1" h="112">
                <a:moveTo>
                  <a:pt x="0" y="0"/>
                </a:moveTo>
                <a:lnTo>
                  <a:pt x="0" y="11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65280" y="4633920"/>
            <a:ext cx="3382920" cy="1440"/>
          </a:xfrm>
          <a:custGeom>
            <a:avLst/>
            <a:gdLst/>
            <a:ahLst/>
            <a:rect l="l" t="t" r="r" b="b"/>
            <a:pathLst>
              <a:path w="1225" h="1">
                <a:moveTo>
                  <a:pt x="0" y="0"/>
                </a:moveTo>
                <a:lnTo>
                  <a:pt x="122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676520" y="4702320"/>
            <a:ext cx="12204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81200" y="476712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535040" y="4629240"/>
            <a:ext cx="1800" cy="252360"/>
          </a:xfrm>
          <a:custGeom>
            <a:avLst/>
            <a:gdLst/>
            <a:ahLst/>
            <a:rect l="l" t="t" r="r" b="b"/>
            <a:pathLst>
              <a:path w="1" h="112">
                <a:moveTo>
                  <a:pt x="0" y="0"/>
                </a:moveTo>
                <a:lnTo>
                  <a:pt x="0" y="11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720720" y="4862520"/>
                <a:ext cx="5382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48</m:t>
                        </m:r>
                      </m:den>
                    </m:f>
                    <m:r>
                      <m:t xml:space="preserve"> 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357200" y="4879800"/>
                <a:ext cx="4431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</m:den>
                    </m:f>
                    <m:r>
                      <m:t xml:space="preserve"> 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1828800" y="4863960"/>
                <a:ext cx="5382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48</m:t>
                        </m:r>
                      </m:den>
                    </m:f>
                    <m:r>
                      <m:t xml:space="preserve"> 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3513240" y="4678200"/>
                <a:ext cx="44280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</m:den>
                    </m:f>
                    <m:r>
                      <m:t xml:space="preserve"> 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2671920" y="4780080"/>
                <a:ext cx="295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3124080" y="4786200"/>
                <a:ext cx="2955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2556000" y="4260960"/>
            <a:ext cx="982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.В. </a:t>
            </a:r>
            <a:r>
              <a:rPr b="1" i="1" lang="de-DE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49280" y="401652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314440" y="3917880"/>
            <a:ext cx="2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49280" y="445608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43160" y="459432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97440" y="44607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85800" y="5686560"/>
            <a:ext cx="3390840" cy="465120"/>
          </a:xfrm>
          <a:custGeom>
            <a:avLst/>
            <a:gdLst/>
            <a:ahLst/>
            <a:rect l="l" t="t" r="r" b="b"/>
            <a:pathLst>
              <a:path w="2136" h="293">
                <a:moveTo>
                  <a:pt x="0" y="229"/>
                </a:moveTo>
                <a:cubicBezTo>
                  <a:pt x="23" y="222"/>
                  <a:pt x="95" y="200"/>
                  <a:pt x="140" y="185"/>
                </a:cubicBezTo>
                <a:cubicBezTo>
                  <a:pt x="185" y="170"/>
                  <a:pt x="223" y="156"/>
                  <a:pt x="268" y="137"/>
                </a:cubicBezTo>
                <a:cubicBezTo>
                  <a:pt x="313" y="118"/>
                  <a:pt x="363" y="96"/>
                  <a:pt x="408" y="73"/>
                </a:cubicBezTo>
                <a:cubicBezTo>
                  <a:pt x="453" y="50"/>
                  <a:pt x="480" y="33"/>
                  <a:pt x="540" y="0"/>
                </a:cubicBezTo>
                <a:cubicBezTo>
                  <a:pt x="632" y="48"/>
                  <a:pt x="620" y="43"/>
                  <a:pt x="664" y="65"/>
                </a:cubicBezTo>
                <a:cubicBezTo>
                  <a:pt x="708" y="87"/>
                  <a:pt x="758" y="113"/>
                  <a:pt x="804" y="133"/>
                </a:cubicBezTo>
                <a:cubicBezTo>
                  <a:pt x="850" y="153"/>
                  <a:pt x="899" y="172"/>
                  <a:pt x="944" y="188"/>
                </a:cubicBezTo>
                <a:cubicBezTo>
                  <a:pt x="989" y="204"/>
                  <a:pt x="1035" y="220"/>
                  <a:pt x="1076" y="232"/>
                </a:cubicBezTo>
                <a:cubicBezTo>
                  <a:pt x="1132" y="243"/>
                  <a:pt x="1151" y="252"/>
                  <a:pt x="1192" y="259"/>
                </a:cubicBezTo>
                <a:cubicBezTo>
                  <a:pt x="1234" y="268"/>
                  <a:pt x="1282" y="277"/>
                  <a:pt x="1328" y="282"/>
                </a:cubicBezTo>
                <a:cubicBezTo>
                  <a:pt x="1374" y="287"/>
                  <a:pt x="1426" y="290"/>
                  <a:pt x="1468" y="291"/>
                </a:cubicBezTo>
                <a:cubicBezTo>
                  <a:pt x="1510" y="293"/>
                  <a:pt x="1541" y="293"/>
                  <a:pt x="1580" y="291"/>
                </a:cubicBezTo>
                <a:cubicBezTo>
                  <a:pt x="1619" y="290"/>
                  <a:pt x="1668" y="286"/>
                  <a:pt x="1704" y="282"/>
                </a:cubicBezTo>
                <a:cubicBezTo>
                  <a:pt x="1740" y="278"/>
                  <a:pt x="1764" y="274"/>
                  <a:pt x="1796" y="268"/>
                </a:cubicBezTo>
                <a:cubicBezTo>
                  <a:pt x="1828" y="263"/>
                  <a:pt x="1861" y="254"/>
                  <a:pt x="1896" y="248"/>
                </a:cubicBezTo>
                <a:cubicBezTo>
                  <a:pt x="1960" y="236"/>
                  <a:pt x="1973" y="237"/>
                  <a:pt x="2004" y="234"/>
                </a:cubicBezTo>
                <a:cubicBezTo>
                  <a:pt x="2035" y="231"/>
                  <a:pt x="2062" y="230"/>
                  <a:pt x="2084" y="230"/>
                </a:cubicBezTo>
                <a:cubicBezTo>
                  <a:pt x="2106" y="229"/>
                  <a:pt x="2125" y="230"/>
                  <a:pt x="2136" y="230"/>
                </a:cubicBezTo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6048360"/>
            <a:ext cx="3382920" cy="1440"/>
          </a:xfrm>
          <a:custGeom>
            <a:avLst/>
            <a:gdLst/>
            <a:ahLst/>
            <a:rect l="l" t="t" r="r" b="b"/>
            <a:pathLst>
              <a:path w="1225" h="1">
                <a:moveTo>
                  <a:pt x="0" y="0"/>
                </a:moveTo>
                <a:lnTo>
                  <a:pt x="122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547640" y="568476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606680" y="5834160"/>
            <a:ext cx="142920" cy="14436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6046920"/>
            <a:ext cx="1440" cy="82440"/>
          </a:xfrm>
          <a:custGeom>
            <a:avLst/>
            <a:gdLst/>
            <a:ahLst/>
            <a:rect l="l" t="t" r="r" b="b"/>
            <a:pathLst>
              <a:path w="1" h="112">
                <a:moveTo>
                  <a:pt x="0" y="0"/>
                </a:moveTo>
                <a:lnTo>
                  <a:pt x="0" y="11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379600" y="4916520"/>
            <a:ext cx="0" cy="111600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241800" y="6051600"/>
            <a:ext cx="1440" cy="82440"/>
          </a:xfrm>
          <a:custGeom>
            <a:avLst/>
            <a:gdLst/>
            <a:ahLst/>
            <a:rect l="l" t="t" r="r" b="b"/>
            <a:pathLst>
              <a:path w="1" h="112">
                <a:moveTo>
                  <a:pt x="0" y="0"/>
                </a:moveTo>
                <a:lnTo>
                  <a:pt x="0" y="11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675240" y="6048360"/>
            <a:ext cx="1440" cy="36360"/>
          </a:xfrm>
          <a:custGeom>
            <a:avLst/>
            <a:gdLst/>
            <a:ahLst/>
            <a:rect l="l" t="t" r="r" b="b"/>
            <a:pathLst>
              <a:path w="1" h="112">
                <a:moveTo>
                  <a:pt x="0" y="0"/>
                </a:moveTo>
                <a:lnTo>
                  <a:pt x="0" y="11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61880" y="588024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36680" y="597384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010040" y="591660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3513240" y="6067440"/>
                <a:ext cx="4284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1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2665440" y="6124680"/>
                <a:ext cx="2952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117960" y="6129360"/>
                <a:ext cx="2952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1373040" y="5297400"/>
                <a:ext cx="4287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1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" name=""/>
          <p:cNvSpPr/>
          <p:nvPr/>
        </p:nvSpPr>
        <p:spPr>
          <a:xfrm>
            <a:off x="1103400" y="5907240"/>
            <a:ext cx="1440" cy="144360"/>
          </a:xfrm>
          <a:custGeom>
            <a:avLst/>
            <a:gdLst/>
            <a:ahLst/>
            <a:rect l="l" t="t" r="r" b="b"/>
            <a:pathLst>
              <a:path w="1" h="112">
                <a:moveTo>
                  <a:pt x="0" y="0"/>
                </a:moveTo>
                <a:lnTo>
                  <a:pt x="0" y="11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959120" y="5902200"/>
            <a:ext cx="1440" cy="144720"/>
          </a:xfrm>
          <a:custGeom>
            <a:avLst/>
            <a:gdLst/>
            <a:ahLst/>
            <a:rect l="l" t="t" r="r" b="b"/>
            <a:pathLst>
              <a:path w="1" h="112">
                <a:moveTo>
                  <a:pt x="0" y="0"/>
                </a:moveTo>
                <a:lnTo>
                  <a:pt x="0" y="11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728640" y="5510160"/>
                <a:ext cx="5238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7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96</m:t>
                        </m:r>
                      </m:den>
                    </m:f>
                    <m:r>
                      <m:t xml:space="preserve"> 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1854360" y="5511960"/>
                <a:ext cx="5238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96</m:t>
                        </m:r>
                      </m:den>
                    </m:f>
                    <m:r>
                      <m:t xml:space="preserve"> 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2309760" y="5432400"/>
            <a:ext cx="23767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.В. </a:t>
            </a:r>
            <a:r>
              <a:rPr b="1" i="1" lang="de-DE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Л.В.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,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de-DE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.В.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00000" y="6041880"/>
            <a:ext cx="1295640" cy="6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Times New Roman"/>
              </a:rPr>
              <a:t>1,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=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003640" y="1916280"/>
            <a:ext cx="259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300720" y="191628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932360" y="1800360"/>
            <a:ext cx="71280" cy="2156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003640" y="18064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500960" y="2079720"/>
            <a:ext cx="179280" cy="712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500960" y="2077920"/>
            <a:ext cx="17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593120" y="190188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561440" y="1882800"/>
            <a:ext cx="61560" cy="65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561440" y="2038320"/>
            <a:ext cx="61560" cy="65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211800" y="2638440"/>
            <a:ext cx="179640" cy="712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211800" y="2637000"/>
            <a:ext cx="17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435640" y="1576440"/>
            <a:ext cx="0" cy="32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397480" y="1469880"/>
            <a:ext cx="71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03640" y="1512720"/>
            <a:ext cx="432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4971600" y="1471680"/>
            <a:ext cx="730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089680" y="121608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003640" y="1455840"/>
            <a:ext cx="0" cy="287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445000" y="1436760"/>
            <a:ext cx="0" cy="14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5403600" y="1484280"/>
            <a:ext cx="7308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003640" y="2026800"/>
            <a:ext cx="0" cy="3049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944960" y="206064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372360" y="153504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.В. </a:t>
            </a:r>
            <a:r>
              <a:rPr b="1" i="1" lang="de-DE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997520" y="2293920"/>
            <a:ext cx="0" cy="53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002200" y="2790720"/>
            <a:ext cx="25909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4963680" y="2752560"/>
            <a:ext cx="7308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6262200" y="2754360"/>
            <a:ext cx="730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682040" y="34354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300720" y="2701800"/>
            <a:ext cx="0" cy="144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596360" y="2295360"/>
            <a:ext cx="0" cy="540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7562520" y="2755800"/>
            <a:ext cx="7308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508720" y="248616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804000" y="249228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669080" y="1916280"/>
            <a:ext cx="432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524720" y="2637000"/>
            <a:ext cx="576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028000" y="1916280"/>
            <a:ext cx="0" cy="720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996320" y="1878120"/>
            <a:ext cx="712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991640" y="2597040"/>
            <a:ext cx="7128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16200000">
            <a:off x="7767360" y="208728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958000" y="2476440"/>
            <a:ext cx="3236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565600" y="2151000"/>
            <a:ext cx="771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066000" y="3213000"/>
            <a:ext cx="5364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389640" y="3220920"/>
            <a:ext cx="2174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137360" y="3220920"/>
            <a:ext cx="2174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49960" y="2114640"/>
            <a:ext cx="504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415120" y="1863720"/>
            <a:ext cx="504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730920" y="1863720"/>
            <a:ext cx="505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059520" y="3243240"/>
            <a:ext cx="259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356600" y="324648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987880" y="3127320"/>
            <a:ext cx="71640" cy="216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059520" y="31338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556480" y="3432240"/>
            <a:ext cx="179640" cy="712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556480" y="3430440"/>
            <a:ext cx="17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648640" y="326088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616960" y="3209760"/>
            <a:ext cx="61920" cy="65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616960" y="3390840"/>
            <a:ext cx="61920" cy="65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267680" y="3984480"/>
            <a:ext cx="179280" cy="7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267680" y="3983040"/>
            <a:ext cx="17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510240" y="2879640"/>
            <a:ext cx="0" cy="3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459480" y="2809800"/>
            <a:ext cx="71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615000" y="3413160"/>
            <a:ext cx="771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991200" y="3726000"/>
            <a:ext cx="3240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483240" y="321300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10560" y="3213000"/>
            <a:ext cx="5364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327800" y="344160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745400" y="321300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180280" y="321300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564400" y="321300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327800" y="369720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327800" y="392580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013440" y="3218040"/>
            <a:ext cx="2174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816600" y="3218040"/>
            <a:ext cx="2174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634160" y="3220920"/>
            <a:ext cx="2174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439120" y="3224160"/>
            <a:ext cx="2174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075520" y="3218040"/>
            <a:ext cx="2174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313760" y="3327480"/>
            <a:ext cx="2174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13760" y="3581280"/>
            <a:ext cx="2174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300800" y="3759120"/>
            <a:ext cx="3477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rot="1800000">
            <a:off x="7418160" y="2892600"/>
            <a:ext cx="71280" cy="21564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7356960" y="2922840"/>
            <a:ext cx="180000" cy="31212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332840" y="3213000"/>
            <a:ext cx="5364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7363440" y="3080160"/>
            <a:ext cx="326520" cy="152280"/>
          </a:xfrm>
          <a:prstGeom prst="line">
            <a:avLst/>
          </a:prstGeom>
          <a:ln w="1260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516800" y="2952720"/>
            <a:ext cx="123840" cy="146160"/>
          </a:xfrm>
          <a:custGeom>
            <a:avLst/>
            <a:gdLst/>
            <a:ahLst/>
            <a:rect l="l" t="t" r="r" b="b"/>
            <a:pathLst>
              <a:path w="78" h="92">
                <a:moveTo>
                  <a:pt x="0" y="0"/>
                </a:moveTo>
                <a:cubicBezTo>
                  <a:pt x="8" y="7"/>
                  <a:pt x="35" y="26"/>
                  <a:pt x="48" y="41"/>
                </a:cubicBezTo>
                <a:cubicBezTo>
                  <a:pt x="61" y="56"/>
                  <a:pt x="72" y="82"/>
                  <a:pt x="78" y="92"/>
                </a:cubicBezTo>
              </a:path>
            </a:pathLst>
          </a:custGeom>
          <a:noFill/>
          <a:ln w="9360">
            <a:solidFill>
              <a:srgbClr val="cc0000"/>
            </a:solidFill>
            <a:round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540560" y="272880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i="1" lang="en-US" sz="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058080" y="4108320"/>
            <a:ext cx="25905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6019560" y="4073400"/>
            <a:ext cx="7308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7318080" y="4071960"/>
            <a:ext cx="730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356600" y="4022640"/>
            <a:ext cx="0" cy="144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651880" y="3616200"/>
            <a:ext cx="0" cy="540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060960" y="3624120"/>
            <a:ext cx="0" cy="540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939000" y="3795840"/>
            <a:ext cx="0" cy="360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502320" y="3807000"/>
            <a:ext cx="0" cy="360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6467040" y="4071960"/>
            <a:ext cx="730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6903720" y="4071960"/>
            <a:ext cx="730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215200" y="3797280"/>
            <a:ext cx="0" cy="360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778880" y="3808440"/>
            <a:ext cx="0" cy="360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7743960" y="4070520"/>
            <a:ext cx="7272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8179920" y="4070520"/>
            <a:ext cx="730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8611920" y="4076640"/>
            <a:ext cx="7308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132600" y="38149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561000" y="38149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988320" y="381168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439040" y="38116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840800" y="38149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269200" y="38149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724360" y="3240000"/>
            <a:ext cx="432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724360" y="3951360"/>
            <a:ext cx="395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724360" y="3470400"/>
            <a:ext cx="395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724360" y="3719520"/>
            <a:ext cx="395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784840" y="3233880"/>
            <a:ext cx="0" cy="720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753160" y="3201840"/>
            <a:ext cx="7128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48480" y="3908520"/>
            <a:ext cx="712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748480" y="3433680"/>
            <a:ext cx="7128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48480" y="3678120"/>
            <a:ext cx="7128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rot="16200000">
            <a:off x="5396400" y="3580560"/>
            <a:ext cx="455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rot="16200000">
            <a:off x="5399280" y="3341160"/>
            <a:ext cx="45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5396040" y="3106080"/>
            <a:ext cx="45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645080" y="3416400"/>
            <a:ext cx="896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722920" y="4761000"/>
            <a:ext cx="0" cy="53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784760" y="4403880"/>
            <a:ext cx="933480" cy="360360"/>
          </a:xfrm>
          <a:custGeom>
            <a:avLst/>
            <a:gdLst/>
            <a:ahLst/>
            <a:rect l="l" t="t" r="r" b="b"/>
            <a:pathLst>
              <a:path w="588" h="227">
                <a:moveTo>
                  <a:pt x="1" y="227"/>
                </a:moveTo>
                <a:cubicBezTo>
                  <a:pt x="0" y="136"/>
                  <a:pt x="0" y="172"/>
                  <a:pt x="1" y="0"/>
                </a:cubicBezTo>
                <a:cubicBezTo>
                  <a:pt x="57" y="4"/>
                  <a:pt x="69" y="4"/>
                  <a:pt x="99" y="13"/>
                </a:cubicBezTo>
                <a:cubicBezTo>
                  <a:pt x="130" y="22"/>
                  <a:pt x="161" y="39"/>
                  <a:pt x="186" y="52"/>
                </a:cubicBezTo>
                <a:cubicBezTo>
                  <a:pt x="211" y="65"/>
                  <a:pt x="227" y="77"/>
                  <a:pt x="252" y="94"/>
                </a:cubicBezTo>
                <a:cubicBezTo>
                  <a:pt x="277" y="111"/>
                  <a:pt x="307" y="134"/>
                  <a:pt x="336" y="151"/>
                </a:cubicBezTo>
                <a:cubicBezTo>
                  <a:pt x="365" y="168"/>
                  <a:pt x="397" y="187"/>
                  <a:pt x="429" y="199"/>
                </a:cubicBezTo>
                <a:cubicBezTo>
                  <a:pt x="461" y="211"/>
                  <a:pt x="498" y="216"/>
                  <a:pt x="525" y="220"/>
                </a:cubicBezTo>
                <a:cubicBezTo>
                  <a:pt x="552" y="224"/>
                  <a:pt x="575" y="222"/>
                  <a:pt x="588" y="223"/>
                </a:cubicBezTo>
              </a:path>
            </a:pathLst>
          </a:custGeom>
          <a:blipFill rotWithShape="0">
            <a:blip r:embed="rId17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781520" y="4761000"/>
            <a:ext cx="187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089680" y="4498920"/>
            <a:ext cx="0" cy="2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402160" y="4691160"/>
            <a:ext cx="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69000" y="4527720"/>
            <a:ext cx="142560" cy="14436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584680" y="4475160"/>
            <a:ext cx="2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734000" y="4751280"/>
            <a:ext cx="9554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.В. </a:t>
            </a:r>
            <a:r>
              <a:rPr b="1" i="1" lang="de-DE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638600" y="50292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в ОСМП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656240" y="411804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5014800" y="4102200"/>
                <a:ext cx="29556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5315040" y="4302000"/>
                <a:ext cx="29520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8" name=""/>
          <p:cNvSpPr/>
          <p:nvPr/>
        </p:nvSpPr>
        <p:spPr>
          <a:xfrm>
            <a:off x="6875640" y="4584600"/>
            <a:ext cx="1865160" cy="319320"/>
          </a:xfrm>
          <a:custGeom>
            <a:avLst/>
            <a:gdLst/>
            <a:ahLst/>
            <a:rect l="l" t="t" r="r" b="b"/>
            <a:pathLst>
              <a:path w="1175" h="201">
                <a:moveTo>
                  <a:pt x="0" y="111"/>
                </a:moveTo>
                <a:cubicBezTo>
                  <a:pt x="9" y="112"/>
                  <a:pt x="25" y="110"/>
                  <a:pt x="52" y="115"/>
                </a:cubicBezTo>
                <a:cubicBezTo>
                  <a:pt x="79" y="120"/>
                  <a:pt x="126" y="132"/>
                  <a:pt x="164" y="144"/>
                </a:cubicBezTo>
                <a:cubicBezTo>
                  <a:pt x="202" y="156"/>
                  <a:pt x="241" y="175"/>
                  <a:pt x="280" y="184"/>
                </a:cubicBezTo>
                <a:cubicBezTo>
                  <a:pt x="319" y="193"/>
                  <a:pt x="365" y="201"/>
                  <a:pt x="400" y="200"/>
                </a:cubicBezTo>
                <a:cubicBezTo>
                  <a:pt x="435" y="199"/>
                  <a:pt x="456" y="191"/>
                  <a:pt x="488" y="176"/>
                </a:cubicBezTo>
                <a:cubicBezTo>
                  <a:pt x="520" y="161"/>
                  <a:pt x="553" y="135"/>
                  <a:pt x="592" y="111"/>
                </a:cubicBezTo>
                <a:cubicBezTo>
                  <a:pt x="631" y="87"/>
                  <a:pt x="677" y="50"/>
                  <a:pt x="720" y="32"/>
                </a:cubicBezTo>
                <a:cubicBezTo>
                  <a:pt x="763" y="14"/>
                  <a:pt x="803" y="0"/>
                  <a:pt x="852" y="0"/>
                </a:cubicBezTo>
                <a:cubicBezTo>
                  <a:pt x="901" y="0"/>
                  <a:pt x="962" y="13"/>
                  <a:pt x="1016" y="32"/>
                </a:cubicBezTo>
                <a:cubicBezTo>
                  <a:pt x="1070" y="51"/>
                  <a:pt x="1142" y="96"/>
                  <a:pt x="1175" y="113"/>
                </a:cubicBezTo>
              </a:path>
            </a:pathLst>
          </a:custGeom>
          <a:blipFill rotWithShape="0">
            <a:blip r:embed="rId18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183440" y="4753080"/>
            <a:ext cx="0" cy="82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505640" y="475632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120160" y="4608360"/>
            <a:ext cx="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442360" y="461484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808760" y="4756320"/>
            <a:ext cx="84240" cy="533160"/>
          </a:xfrm>
          <a:custGeom>
            <a:avLst/>
            <a:gdLst/>
            <a:ahLst/>
            <a:rect l="l" t="t" r="r" b="b"/>
            <a:pathLst>
              <a:path w="53" h="336">
                <a:moveTo>
                  <a:pt x="0" y="0"/>
                </a:moveTo>
                <a:cubicBezTo>
                  <a:pt x="6" y="9"/>
                  <a:pt x="27" y="35"/>
                  <a:pt x="36" y="56"/>
                </a:cubicBezTo>
                <a:cubicBezTo>
                  <a:pt x="45" y="77"/>
                  <a:pt x="51" y="100"/>
                  <a:pt x="52" y="128"/>
                </a:cubicBezTo>
                <a:cubicBezTo>
                  <a:pt x="53" y="156"/>
                  <a:pt x="47" y="196"/>
                  <a:pt x="40" y="224"/>
                </a:cubicBezTo>
                <a:cubicBezTo>
                  <a:pt x="33" y="252"/>
                  <a:pt x="18" y="277"/>
                  <a:pt x="12" y="296"/>
                </a:cubicBezTo>
                <a:cubicBezTo>
                  <a:pt x="6" y="315"/>
                  <a:pt x="6" y="328"/>
                  <a:pt x="4" y="336"/>
                </a:cubicBezTo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807320" y="4954680"/>
            <a:ext cx="82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805880" y="5126040"/>
            <a:ext cx="7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813800" y="4761000"/>
            <a:ext cx="0" cy="53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02600" y="4610160"/>
            <a:ext cx="130320" cy="12996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331040" y="4767120"/>
            <a:ext cx="108000" cy="1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335720" y="4822920"/>
            <a:ext cx="9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813800" y="499752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818480" y="5033880"/>
            <a:ext cx="5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645240" y="45813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677440" y="45813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669080" y="5218200"/>
            <a:ext cx="2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48560" y="447984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6727680" y="4921200"/>
                <a:ext cx="5050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3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7269120" y="4925880"/>
                <a:ext cx="4888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3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8" name=""/>
          <p:cNvSpPr/>
          <p:nvPr/>
        </p:nvSpPr>
        <p:spPr>
          <a:xfrm flipH="1">
            <a:off x="6966000" y="4830840"/>
            <a:ext cx="216000" cy="14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7472160" y="4902120"/>
            <a:ext cx="3636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8394840" y="4195800"/>
                <a:ext cx="4888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3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7705800" y="4195800"/>
                <a:ext cx="4888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3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2" name=""/>
          <p:cNvSpPr/>
          <p:nvPr/>
        </p:nvSpPr>
        <p:spPr>
          <a:xfrm flipH="1" flipV="1">
            <a:off x="7994520" y="4547880"/>
            <a:ext cx="122400" cy="50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8439120" y="4541760"/>
            <a:ext cx="55440" cy="90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8028000" y="5145120"/>
                <a:ext cx="5047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8028000" y="4811760"/>
                <a:ext cx="5047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6" name=""/>
          <p:cNvSpPr/>
          <p:nvPr/>
        </p:nvSpPr>
        <p:spPr>
          <a:xfrm flipH="1" flipV="1">
            <a:off x="7885080" y="4952880"/>
            <a:ext cx="122400" cy="36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7870320" y="5130720"/>
            <a:ext cx="157320" cy="169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823080" y="4334040"/>
            <a:ext cx="95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.В. </a:t>
            </a:r>
            <a:r>
              <a:rPr b="1" i="1" lang="de-DE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862680" y="4761000"/>
            <a:ext cx="187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7645320" y="5845320"/>
                <a:ext cx="2811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1" name=""/>
          <p:cNvSpPr/>
          <p:nvPr/>
        </p:nvSpPr>
        <p:spPr>
          <a:xfrm>
            <a:off x="6086520" y="5452920"/>
            <a:ext cx="1220760" cy="360360"/>
          </a:xfrm>
          <a:custGeom>
            <a:avLst/>
            <a:gdLst/>
            <a:ahLst/>
            <a:rect l="l" t="t" r="r" b="b"/>
            <a:pathLst>
              <a:path w="769" h="227">
                <a:moveTo>
                  <a:pt x="1" y="227"/>
                </a:moveTo>
                <a:cubicBezTo>
                  <a:pt x="0" y="136"/>
                  <a:pt x="0" y="172"/>
                  <a:pt x="1" y="0"/>
                </a:cubicBezTo>
                <a:cubicBezTo>
                  <a:pt x="78" y="4"/>
                  <a:pt x="94" y="4"/>
                  <a:pt x="135" y="13"/>
                </a:cubicBezTo>
                <a:cubicBezTo>
                  <a:pt x="175" y="20"/>
                  <a:pt x="207" y="30"/>
                  <a:pt x="241" y="41"/>
                </a:cubicBezTo>
                <a:cubicBezTo>
                  <a:pt x="275" y="52"/>
                  <a:pt x="304" y="64"/>
                  <a:pt x="337" y="77"/>
                </a:cubicBezTo>
                <a:cubicBezTo>
                  <a:pt x="370" y="90"/>
                  <a:pt x="403" y="104"/>
                  <a:pt x="442" y="119"/>
                </a:cubicBezTo>
                <a:cubicBezTo>
                  <a:pt x="481" y="134"/>
                  <a:pt x="535" y="156"/>
                  <a:pt x="574" y="170"/>
                </a:cubicBezTo>
                <a:cubicBezTo>
                  <a:pt x="613" y="184"/>
                  <a:pt x="644" y="194"/>
                  <a:pt x="676" y="203"/>
                </a:cubicBezTo>
                <a:cubicBezTo>
                  <a:pt x="708" y="212"/>
                  <a:pt x="750" y="220"/>
                  <a:pt x="769" y="224"/>
                </a:cubicBezTo>
              </a:path>
            </a:pathLst>
          </a:custGeom>
          <a:blipFill rotWithShape="0">
            <a:blip r:embed="rId20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961240" y="5167440"/>
            <a:ext cx="39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7302600" y="5807880"/>
            <a:ext cx="1331640" cy="57240"/>
          </a:xfrm>
          <a:custGeom>
            <a:avLst/>
            <a:gdLst/>
            <a:ahLst/>
            <a:rect l="l" t="t" r="r" b="b"/>
            <a:pathLst>
              <a:path w="583" h="110">
                <a:moveTo>
                  <a:pt x="0" y="108"/>
                </a:moveTo>
                <a:cubicBezTo>
                  <a:pt x="21" y="95"/>
                  <a:pt x="85" y="47"/>
                  <a:pt x="128" y="29"/>
                </a:cubicBezTo>
                <a:cubicBezTo>
                  <a:pt x="171" y="11"/>
                  <a:pt x="209" y="0"/>
                  <a:pt x="258" y="0"/>
                </a:cubicBezTo>
                <a:cubicBezTo>
                  <a:pt x="307" y="0"/>
                  <a:pt x="370" y="11"/>
                  <a:pt x="424" y="29"/>
                </a:cubicBezTo>
                <a:cubicBezTo>
                  <a:pt x="478" y="47"/>
                  <a:pt x="550" y="93"/>
                  <a:pt x="583" y="110"/>
                </a:cubicBezTo>
              </a:path>
            </a:pathLst>
          </a:custGeom>
          <a:blipFill rotWithShape="0">
            <a:blip r:embed="rId21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7270200" y="5808600"/>
            <a:ext cx="42840" cy="755640"/>
          </a:xfrm>
          <a:custGeom>
            <a:avLst/>
            <a:gdLst/>
            <a:ahLst/>
            <a:rect l="l" t="t" r="r" b="b"/>
            <a:pathLst>
              <a:path w="53" h="336">
                <a:moveTo>
                  <a:pt x="0" y="0"/>
                </a:moveTo>
                <a:cubicBezTo>
                  <a:pt x="6" y="9"/>
                  <a:pt x="27" y="35"/>
                  <a:pt x="36" y="56"/>
                </a:cubicBezTo>
                <a:cubicBezTo>
                  <a:pt x="45" y="77"/>
                  <a:pt x="51" y="100"/>
                  <a:pt x="52" y="128"/>
                </a:cubicBezTo>
                <a:cubicBezTo>
                  <a:pt x="53" y="156"/>
                  <a:pt x="47" y="196"/>
                  <a:pt x="40" y="224"/>
                </a:cubicBezTo>
                <a:cubicBezTo>
                  <a:pt x="33" y="252"/>
                  <a:pt x="18" y="277"/>
                  <a:pt x="12" y="296"/>
                </a:cubicBezTo>
                <a:cubicBezTo>
                  <a:pt x="6" y="315"/>
                  <a:pt x="6" y="328"/>
                  <a:pt x="4" y="336"/>
                </a:cubicBezTo>
              </a:path>
            </a:pathLst>
          </a:custGeom>
          <a:blipFill rotWithShape="0">
            <a:blip r:embed="rId22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486480" y="552132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900840" y="5678640"/>
            <a:ext cx="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759800" y="5805360"/>
            <a:ext cx="0" cy="61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207280" y="5808600"/>
            <a:ext cx="0" cy="50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084720" y="5813280"/>
            <a:ext cx="255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272360" y="6040440"/>
            <a:ext cx="3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277040" y="6284880"/>
            <a:ext cx="36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308720" y="5805360"/>
            <a:ext cx="0" cy="75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593040" y="5640480"/>
            <a:ext cx="129960" cy="12996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966080" y="588636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970760" y="5923080"/>
            <a:ext cx="5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182000" y="6132600"/>
            <a:ext cx="71280" cy="7128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8093160" y="5845320"/>
                <a:ext cx="2808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6851520" y="5789520"/>
                <a:ext cx="37008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6861240" y="6183360"/>
                <a:ext cx="36972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0" name=""/>
          <p:cNvSpPr/>
          <p:nvPr/>
        </p:nvSpPr>
        <p:spPr>
          <a:xfrm flipH="1" flipV="1">
            <a:off x="7189920" y="5984640"/>
            <a:ext cx="71280" cy="50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7198920" y="6280200"/>
            <a:ext cx="7164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6380280" y="5145120"/>
                <a:ext cx="2952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6840360" y="5322960"/>
                <a:ext cx="2955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4" name=""/>
          <p:cNvSpPr/>
          <p:nvPr/>
        </p:nvSpPr>
        <p:spPr>
          <a:xfrm>
            <a:off x="4614840" y="5464080"/>
            <a:ext cx="1513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.В.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de-DE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.В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de-DE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.В.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600440" y="6261120"/>
            <a:ext cx="208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664240" y="4178160"/>
            <a:ext cx="12366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3</a:t>
            </a:r>
            <a:r>
              <a:rPr b="1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,6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593200" y="563724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267680" y="635652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176960" y="5535720"/>
            <a:ext cx="2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200"/>
                            </p:stCondLst>
                            <p:childTnLst>
                              <p:par>
                                <p:cTn id="6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5200"/>
                            </p:stCondLst>
                            <p:childTnLst>
                              <p:par>
                                <p:cTn id="6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6200"/>
                            </p:stCondLst>
                            <p:childTnLst>
                              <p:par>
                                <p:cTn id="7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6700"/>
                            </p:stCondLst>
                            <p:childTnLst>
                              <p:par>
                                <p:cTn id="7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7200"/>
                            </p:stCondLst>
                            <p:childTnLst>
                              <p:par>
                                <p:cTn id="7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7700"/>
                            </p:stCondLst>
                            <p:childTnLst>
                              <p:par>
                                <p:cTn id="7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8060"/>
                            </p:stCondLst>
                            <p:childTnLst>
                              <p:par>
                                <p:cTn id="75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5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5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9060"/>
                            </p:stCondLst>
                            <p:childTnLst>
                              <p:par>
                                <p:cTn id="7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0060"/>
                            </p:stCondLst>
                            <p:childTnLst>
                              <p:par>
                                <p:cTn id="7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0560"/>
                            </p:stCondLst>
                            <p:childTnLst>
                              <p:par>
                                <p:cTn id="7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2000"/>
                            </p:stCondLst>
                            <p:childTnLst>
                              <p:par>
                                <p:cTn id="8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28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3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3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3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4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4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4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4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5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5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5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6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6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6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2000"/>
                            </p:stCondLst>
                            <p:childTnLst>
                              <p:par>
                                <p:cTn id="8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2500"/>
                            </p:stCondLst>
                            <p:childTnLst>
                              <p:par>
                                <p:cTn id="87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3500"/>
                            </p:stCondLst>
                            <p:childTnLst>
                              <p:par>
                                <p:cTn id="8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4000"/>
                            </p:stCondLst>
                            <p:childTnLst>
                              <p:par>
                                <p:cTn id="8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4500"/>
                            </p:stCondLst>
                            <p:childTnLst>
                              <p:par>
                                <p:cTn id="8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5500"/>
                            </p:stCondLst>
                            <p:childTnLst>
                              <p:par>
                                <p:cTn id="9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6000"/>
                            </p:stCondLst>
                            <p:childTnLst>
                              <p:par>
                                <p:cTn id="9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6500"/>
                            </p:stCondLst>
                            <p:childTnLst>
                              <p:par>
                                <p:cTn id="9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7000"/>
                            </p:stCondLst>
                            <p:childTnLst>
                              <p:par>
                                <p:cTn id="9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7500"/>
                            </p:stCondLst>
                            <p:childTnLst>
                              <p:par>
                                <p:cTn id="9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8000"/>
                            </p:stCondLst>
                            <p:childTnLst>
                              <p:par>
                                <p:cTn id="9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8500"/>
                            </p:stCondLst>
                            <p:childTnLst>
                              <p:par>
                                <p:cTn id="9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9000"/>
                            </p:stCondLst>
                            <p:childTnLst>
                              <p:par>
                                <p:cTn id="9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9500"/>
                            </p:stCondLst>
                            <p:childTnLst>
                              <p:par>
                                <p:cTn id="9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0500"/>
                            </p:stCondLst>
                            <p:childTnLst>
                              <p:par>
                                <p:cTn id="9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9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4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4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4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5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5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5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6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6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6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9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0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0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12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15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1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1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2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3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48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51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8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7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7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7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8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8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8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5500"/>
                            </p:stCondLst>
                            <p:childTnLst>
                              <p:par>
                                <p:cTn id="11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6500"/>
                            </p:stCondLst>
                            <p:childTnLst>
                              <p:par>
                                <p:cTn id="12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7000"/>
                            </p:stCondLst>
                            <p:childTnLst>
                              <p:par>
                                <p:cTn id="12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7500"/>
                            </p:stCondLst>
                            <p:childTnLst>
                              <p:par>
                                <p:cTn id="12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8000"/>
                            </p:stCondLst>
                            <p:childTnLst>
                              <p:par>
                                <p:cTn id="12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8500"/>
                            </p:stCondLst>
                            <p:childTnLst>
                              <p:par>
                                <p:cTn id="12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9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0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1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43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46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4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59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62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65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68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71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4500"/>
                            </p:stCondLst>
                            <p:childTnLst>
                              <p:par>
                                <p:cTn id="127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7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8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fill="hold">
                            <p:stCondLst>
                              <p:cond delay="5500"/>
                            </p:stCondLst>
                            <p:childTnLst>
                              <p:par>
                                <p:cTn id="128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8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9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6500"/>
                            </p:stCondLst>
                            <p:childTnLst>
                              <p:par>
                                <p:cTn id="129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9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7000"/>
                            </p:stCondLst>
                            <p:childTnLst>
                              <p:par>
                                <p:cTn id="129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9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7500"/>
                            </p:stCondLst>
                            <p:childTnLst>
                              <p:par>
                                <p:cTn id="130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0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0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8500"/>
                            </p:stCondLst>
                            <p:childTnLst>
                              <p:par>
                                <p:cTn id="130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1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21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2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27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30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3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36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39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42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45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48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51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5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6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0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2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9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4500"/>
                            </p:stCondLst>
                            <p:childTnLst>
                              <p:par>
                                <p:cTn id="139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9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6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4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7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21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7000"/>
                            </p:stCondLst>
                            <p:childTnLst>
                              <p:par>
                                <p:cTn id="14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7500"/>
                            </p:stCondLst>
                            <p:childTnLst>
                              <p:par>
                                <p:cTn id="14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8500"/>
                            </p:stCondLst>
                            <p:childTnLst>
                              <p:par>
                                <p:cTn id="14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2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9500"/>
                            </p:stCondLst>
                            <p:childTnLst>
                              <p:par>
                                <p:cTn id="14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9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3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5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5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0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5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8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1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4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7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0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3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6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9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2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35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fill="hold">
                            <p:stCondLst>
                              <p:cond delay="4500"/>
                            </p:stCondLst>
                            <p:childTnLst>
                              <p:par>
                                <p:cTn id="15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fill="hold">
                            <p:stCondLst>
                              <p:cond delay="5500"/>
                            </p:stCondLst>
                            <p:childTnLst>
                              <p:par>
                                <p:cTn id="15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6500"/>
                            </p:stCondLst>
                            <p:childTnLst>
                              <p:par>
                                <p:cTn id="15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5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7500"/>
                            </p:stCondLst>
                            <p:childTnLst>
                              <p:par>
                                <p:cTn id="15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fill="hold">
                            <p:stCondLst>
                              <p:cond delay="8000"/>
                            </p:stCondLst>
                            <p:childTnLst>
                              <p:par>
                                <p:cTn id="15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fill="hold">
                            <p:stCondLst>
                              <p:cond delay="8500"/>
                            </p:stCondLst>
                            <p:childTnLst>
                              <p:par>
                                <p:cTn id="15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fill="hold">
                            <p:stCondLst>
                              <p:cond delay="9000"/>
                            </p:stCondLst>
                            <p:childTnLst>
                              <p:par>
                                <p:cTn id="15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9500"/>
                            </p:stCondLst>
                            <p:childTnLst>
                              <p:par>
                                <p:cTn id="15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9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4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9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9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0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4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6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9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1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1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6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1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6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fill="hold">
                            <p:stCondLst>
                              <p:cond delay="13500"/>
                            </p:stCondLst>
                            <p:childTnLst>
                              <p:par>
                                <p:cTn id="16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4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15500"/>
                            </p:stCondLst>
                            <p:childTnLst>
                              <p:par>
                                <p:cTn id="17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1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2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7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0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2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5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2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5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0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3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6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6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6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4" fill="hold">
                            <p:stCondLst>
                              <p:cond delay="18500"/>
                            </p:stCondLst>
                            <p:childTnLst>
                              <p:par>
                                <p:cTn id="176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6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fill="hold">
                            <p:stCondLst>
                              <p:cond delay="19000"/>
                            </p:stCondLst>
                            <p:childTnLst>
                              <p:par>
                                <p:cTn id="176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7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fill="hold">
                            <p:stCondLst>
                              <p:cond delay="19500"/>
                            </p:stCondLst>
                            <p:childTnLst>
                              <p:par>
                                <p:cTn id="17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7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8" fill="hold">
                            <p:stCondLst>
                              <p:cond delay="20500"/>
                            </p:stCondLst>
                            <p:childTnLst>
                              <p:par>
                                <p:cTn id="177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8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84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21500"/>
                            </p:stCondLst>
                            <p:childTnLst>
                              <p:par>
                                <p:cTn id="17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8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1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6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7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8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9" fill="hold">
                            <p:stCondLst>
                              <p:cond delay="1040"/>
                            </p:stCondLst>
                            <p:childTnLst>
                              <p:par>
                                <p:cTn id="18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2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6" fill="hold">
                            <p:stCondLst>
                              <p:cond delay="2040"/>
                            </p:stCondLst>
                            <p:childTnLst>
                              <p:par>
                                <p:cTn id="180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09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12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4040"/>
                            </p:stCondLst>
                            <p:childTnLst>
                              <p:par>
                                <p:cTn id="18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21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24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8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0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4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5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6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7" fill="hold">
                            <p:stCondLst>
                              <p:cond delay="3320"/>
                            </p:stCondLst>
                            <p:childTnLst>
                              <p:par>
                                <p:cTn id="183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40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43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46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7" fill="hold">
                            <p:stCondLst>
                              <p:cond delay="5320"/>
                            </p:stCondLst>
                            <p:childTnLst>
                              <p:par>
                                <p:cTn id="184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50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1" fill="hold">
                            <p:stCondLst>
                              <p:cond delay="7320"/>
                            </p:stCondLst>
                            <p:childTnLst>
                              <p:par>
                                <p:cTn id="18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5" fill="hold">
                            <p:stCondLst>
                              <p:cond delay="7820"/>
                            </p:stCondLst>
                            <p:childTnLst>
                              <p:par>
                                <p:cTn id="18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9" fill="hold">
                            <p:stCondLst>
                              <p:cond delay="8320"/>
                            </p:stCondLst>
                            <p:childTnLst>
                              <p:par>
                                <p:cTn id="18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8820"/>
                            </p:stCondLst>
                            <p:childTnLst>
                              <p:par>
                                <p:cTn id="18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71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74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8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9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0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84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87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90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93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96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99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02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05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3" fill="hold">
                            <p:stCondLst>
                              <p:cond delay="5500"/>
                            </p:stCondLst>
                            <p:childTnLst>
                              <p:par>
                                <p:cTn id="19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9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4" fill="hold">
                      <p:stCondLst>
                        <p:cond delay="indefinite"/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8" dur="8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9" dur="8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0" dur="8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3" dur="8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4" dur="8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5" dur="8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fill="hold">
                      <p:stCondLst>
                        <p:cond delay="indefinite"/>
                      </p:stCondLst>
                      <p:childTnLst>
                        <p:par>
                          <p:cTn id="1937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1" fill="hold">
                            <p:stCondLst>
                              <p:cond delay="500"/>
                            </p:stCondLst>
                            <p:childTnLst>
                              <p:par>
                                <p:cTn id="194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4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4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5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5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5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6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6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6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6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7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7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97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8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8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8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8" fill="hold">
                            <p:stCondLst>
                              <p:cond delay="4500"/>
                            </p:stCondLst>
                            <p:childTnLst>
                              <p:par>
                                <p:cTn id="198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9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9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6" fill="hold">
                      <p:stCondLst>
                        <p:cond delay="indefinite"/>
                      </p:stCondLst>
                      <p:childTnLst>
                        <p:par>
                          <p:cTn id="1997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0" dur="8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1" dur="8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2" dur="8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fill="hold">
                      <p:stCondLst>
                        <p:cond delay="indefinite"/>
                      </p:stCondLst>
                      <p:childTnLst>
                        <p:par>
                          <p:cTn id="2011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14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17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20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23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26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3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3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3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4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2" fill="hold">
                            <p:stCondLst>
                              <p:cond delay="3500"/>
                            </p:stCondLst>
                            <p:childTnLst>
                              <p:par>
                                <p:cTn id="204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4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4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5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54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5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6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1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6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5" fill="hold">
                            <p:stCondLst>
                              <p:cond delay="4500"/>
                            </p:stCondLst>
                            <p:childTnLst>
                              <p:par>
                                <p:cTn id="206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6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7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07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7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07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8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1" fill="hold">
                            <p:stCondLst>
                              <p:cond delay="6500"/>
                            </p:stCondLst>
                            <p:childTnLst>
                              <p:par>
                                <p:cTn id="208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8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5" fill="hold">
                            <p:stCondLst>
                              <p:cond delay="7000"/>
                            </p:stCondLst>
                            <p:childTnLst>
                              <p:par>
                                <p:cTn id="208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8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9" fill="hold">
                            <p:stCondLst>
                              <p:cond delay="7500"/>
                            </p:stCondLst>
                            <p:childTnLst>
                              <p:par>
                                <p:cTn id="209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9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9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6" fill="hold">
                            <p:stCondLst>
                              <p:cond delay="8000"/>
                            </p:stCondLst>
                            <p:childTnLst>
                              <p:par>
                                <p:cTn id="209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9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0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3" fill="hold">
                            <p:stCondLst>
                              <p:cond delay="8500"/>
                            </p:stCondLst>
                            <p:childTnLst>
                              <p:par>
                                <p:cTn id="210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0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9"/>
            </a:gs>
            <a:gs pos="100000">
              <a:srgbClr val="c5f4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50920" y="260280"/>
            <a:ext cx="8642160" cy="5148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 Black"/>
              </a:rPr>
              <a:t>Использование кинематического метод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01640" y="1413000"/>
            <a:ext cx="2448000" cy="792000"/>
          </a:xfrm>
          <a:custGeom>
            <a:avLst/>
            <a:gdLst/>
            <a:ahLst/>
            <a:rect l="l" t="t" r="r" b="b"/>
            <a:pathLst>
              <a:path w="1225" h="499">
                <a:moveTo>
                  <a:pt x="0" y="499"/>
                </a:moveTo>
                <a:lnTo>
                  <a:pt x="0" y="0"/>
                </a:lnTo>
                <a:lnTo>
                  <a:pt x="1225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359080" y="116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a7"/>
                </a:solidFill>
                <a:latin typeface="Arial"/>
              </a:rPr>
              <a:t>...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11280" y="2206800"/>
            <a:ext cx="179280" cy="7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179880" y="1300320"/>
            <a:ext cx="71280" cy="215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11280" y="2205000"/>
            <a:ext cx="17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971720" y="1620720"/>
            <a:ext cx="179280" cy="7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971720" y="1628640"/>
            <a:ext cx="17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063880" y="1481040"/>
            <a:ext cx="0" cy="1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173400" y="130032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138480" y="1376280"/>
            <a:ext cx="61920" cy="65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031840" y="1430280"/>
            <a:ext cx="61920" cy="65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031840" y="1592280"/>
            <a:ext cx="61920" cy="65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352520" y="10335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06320" y="895320"/>
            <a:ext cx="0" cy="503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900000" y="6541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671040" y="907920"/>
            <a:ext cx="7308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312920" y="8431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346040" y="895320"/>
            <a:ext cx="0" cy="14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703080" y="949320"/>
            <a:ext cx="647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1310760" y="914400"/>
            <a:ext cx="730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41640" y="1413000"/>
            <a:ext cx="2448000" cy="792000"/>
          </a:xfrm>
          <a:custGeom>
            <a:avLst/>
            <a:gdLst/>
            <a:ahLst/>
            <a:rect l="l" t="t" r="r" b="b"/>
            <a:pathLst>
              <a:path w="1225" h="499">
                <a:moveTo>
                  <a:pt x="0" y="499"/>
                </a:moveTo>
                <a:lnTo>
                  <a:pt x="0" y="0"/>
                </a:lnTo>
                <a:lnTo>
                  <a:pt x="1225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599080" y="1160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a7"/>
                </a:solidFill>
                <a:latin typeface="Arial"/>
              </a:rPr>
              <a:t>...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851280" y="2206800"/>
            <a:ext cx="179280" cy="71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419880" y="1300320"/>
            <a:ext cx="71280" cy="215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851280" y="2205000"/>
            <a:ext cx="17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413400" y="130032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378480" y="1376280"/>
            <a:ext cx="61920" cy="65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592520" y="10335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946680" y="895320"/>
            <a:ext cx="0" cy="503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3911760" y="907920"/>
            <a:ext cx="7272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552920" y="8431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3943080" y="949320"/>
            <a:ext cx="647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592520" y="895320"/>
            <a:ext cx="0" cy="14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4557240" y="914400"/>
            <a:ext cx="730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5310360" y="1426680"/>
            <a:ext cx="0" cy="360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141800" y="6541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373560" y="1268280"/>
            <a:ext cx="431640" cy="289080"/>
          </a:xfrm>
          <a:prstGeom prst="rightArrow">
            <a:avLst>
              <a:gd name="adj1" fmla="val 50000"/>
              <a:gd name="adj2" fmla="val 37329"/>
            </a:avLst>
          </a:prstGeom>
          <a:solidFill>
            <a:srgbClr val="bbe0e3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45160" y="15210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Times New Roman"/>
              </a:rPr>
              <a:t>S</a:t>
            </a:r>
            <a:r>
              <a:rPr b="1" i="1" lang="en-US" sz="800" spc="-1" strike="noStrike" baseline="-25000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143680" y="857160"/>
            <a:ext cx="1454040" cy="437040"/>
          </a:xfrm>
          <a:prstGeom prst="rect">
            <a:avLst/>
          </a:prstGeom>
          <a:gradFill rotWithShape="0">
            <a:gsLst>
              <a:gs pos="0">
                <a:srgbClr val="bbe0e3">
                  <a:alpha val="60392"/>
                </a:srgbClr>
              </a:gs>
              <a:gs pos="50000">
                <a:srgbClr val="ffffff">
                  <a:alpha val="62352"/>
                </a:srgbClr>
              </a:gs>
              <a:gs pos="100000">
                <a:srgbClr val="bbe0e3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Л.В.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5618160" y="1595520"/>
                <a:ext cx="31719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 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t</m:t>
                            </m:r>
                            <m:r>
                              <m:t xml:space="preserve"> 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2" name=""/>
          <p:cNvSpPr/>
          <p:nvPr/>
        </p:nvSpPr>
        <p:spPr>
          <a:xfrm>
            <a:off x="5127480" y="2552760"/>
            <a:ext cx="1800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Ес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t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6877080" y="2390760"/>
                <a:ext cx="19065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 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num>
                      <m:den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4" name=""/>
          <p:cNvSpPr/>
          <p:nvPr/>
        </p:nvSpPr>
        <p:spPr>
          <a:xfrm>
            <a:off x="6041880" y="2963880"/>
            <a:ext cx="287640" cy="287280"/>
          </a:xfrm>
          <a:prstGeom prst="upDownArrow">
            <a:avLst>
              <a:gd name="adj1" fmla="val 46963"/>
              <a:gd name="adj2" fmla="val 29833"/>
            </a:avLst>
          </a:prstGeom>
          <a:solidFill>
            <a:srgbClr val="bbe0e3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905440" y="3151080"/>
            <a:ext cx="100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69720" y="239544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Вспомогательное состоя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01640" y="3024360"/>
            <a:ext cx="2448000" cy="792000"/>
          </a:xfrm>
          <a:custGeom>
            <a:avLst/>
            <a:gdLst/>
            <a:ahLst/>
            <a:rect l="l" t="t" r="r" b="b"/>
            <a:pathLst>
              <a:path w="1225" h="499">
                <a:moveTo>
                  <a:pt x="0" y="499"/>
                </a:moveTo>
                <a:lnTo>
                  <a:pt x="0" y="0"/>
                </a:lnTo>
                <a:lnTo>
                  <a:pt x="1225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359080" y="26719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a7"/>
                </a:solidFill>
                <a:latin typeface="Arial"/>
              </a:rPr>
              <a:t>...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11280" y="3817800"/>
            <a:ext cx="179280" cy="7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179880" y="2911320"/>
            <a:ext cx="71280" cy="216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11280" y="3816360"/>
            <a:ext cx="17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173400" y="291132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138480" y="2987640"/>
            <a:ext cx="61920" cy="65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2063880" y="304452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874880" y="33498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i="1" lang="en-US" sz="1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~</a:t>
            </a:r>
            <a:r>
              <a:rPr b="1" i="1" lang="en-US" sz="1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98400" y="1319040"/>
            <a:ext cx="2432160" cy="297000"/>
          </a:xfrm>
          <a:custGeom>
            <a:avLst/>
            <a:gdLst/>
            <a:ahLst/>
            <a:rect l="l" t="t" r="r" b="b"/>
            <a:pathLst>
              <a:path w="1532" h="187">
                <a:moveTo>
                  <a:pt x="0" y="57"/>
                </a:moveTo>
                <a:cubicBezTo>
                  <a:pt x="15" y="62"/>
                  <a:pt x="47" y="73"/>
                  <a:pt x="88" y="89"/>
                </a:cubicBezTo>
                <a:cubicBezTo>
                  <a:pt x="129" y="105"/>
                  <a:pt x="191" y="137"/>
                  <a:pt x="244" y="153"/>
                </a:cubicBezTo>
                <a:cubicBezTo>
                  <a:pt x="297" y="169"/>
                  <a:pt x="348" y="183"/>
                  <a:pt x="404" y="185"/>
                </a:cubicBezTo>
                <a:cubicBezTo>
                  <a:pt x="460" y="187"/>
                  <a:pt x="522" y="179"/>
                  <a:pt x="580" y="165"/>
                </a:cubicBezTo>
                <a:cubicBezTo>
                  <a:pt x="638" y="151"/>
                  <a:pt x="705" y="118"/>
                  <a:pt x="752" y="101"/>
                </a:cubicBezTo>
                <a:cubicBezTo>
                  <a:pt x="799" y="84"/>
                  <a:pt x="820" y="74"/>
                  <a:pt x="860" y="61"/>
                </a:cubicBezTo>
                <a:cubicBezTo>
                  <a:pt x="900" y="48"/>
                  <a:pt x="944" y="31"/>
                  <a:pt x="992" y="21"/>
                </a:cubicBezTo>
                <a:cubicBezTo>
                  <a:pt x="1040" y="11"/>
                  <a:pt x="1090" y="2"/>
                  <a:pt x="1148" y="1"/>
                </a:cubicBezTo>
                <a:cubicBezTo>
                  <a:pt x="1206" y="0"/>
                  <a:pt x="1276" y="5"/>
                  <a:pt x="1340" y="13"/>
                </a:cubicBezTo>
                <a:cubicBezTo>
                  <a:pt x="1404" y="21"/>
                  <a:pt x="1492" y="41"/>
                  <a:pt x="1532" y="49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12720" y="1409760"/>
            <a:ext cx="90720" cy="799920"/>
          </a:xfrm>
          <a:custGeom>
            <a:avLst/>
            <a:gdLst/>
            <a:ahLst/>
            <a:rect l="l" t="t" r="r" b="b"/>
            <a:pathLst>
              <a:path w="57" h="504">
                <a:moveTo>
                  <a:pt x="54" y="0"/>
                </a:moveTo>
                <a:cubicBezTo>
                  <a:pt x="49" y="10"/>
                  <a:pt x="35" y="31"/>
                  <a:pt x="26" y="60"/>
                </a:cubicBezTo>
                <a:cubicBezTo>
                  <a:pt x="17" y="89"/>
                  <a:pt x="4" y="129"/>
                  <a:pt x="2" y="172"/>
                </a:cubicBezTo>
                <a:cubicBezTo>
                  <a:pt x="0" y="215"/>
                  <a:pt x="6" y="271"/>
                  <a:pt x="14" y="316"/>
                </a:cubicBezTo>
                <a:cubicBezTo>
                  <a:pt x="22" y="361"/>
                  <a:pt x="43" y="409"/>
                  <a:pt x="50" y="440"/>
                </a:cubicBezTo>
                <a:cubicBezTo>
                  <a:pt x="57" y="471"/>
                  <a:pt x="53" y="491"/>
                  <a:pt x="54" y="50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940200" y="1320840"/>
            <a:ext cx="2432160" cy="297000"/>
          </a:xfrm>
          <a:custGeom>
            <a:avLst/>
            <a:gdLst/>
            <a:ahLst/>
            <a:rect l="l" t="t" r="r" b="b"/>
            <a:pathLst>
              <a:path w="1532" h="187">
                <a:moveTo>
                  <a:pt x="0" y="57"/>
                </a:moveTo>
                <a:cubicBezTo>
                  <a:pt x="15" y="62"/>
                  <a:pt x="47" y="73"/>
                  <a:pt x="88" y="89"/>
                </a:cubicBezTo>
                <a:cubicBezTo>
                  <a:pt x="129" y="105"/>
                  <a:pt x="191" y="137"/>
                  <a:pt x="244" y="153"/>
                </a:cubicBezTo>
                <a:cubicBezTo>
                  <a:pt x="297" y="169"/>
                  <a:pt x="348" y="183"/>
                  <a:pt x="404" y="185"/>
                </a:cubicBezTo>
                <a:cubicBezTo>
                  <a:pt x="460" y="187"/>
                  <a:pt x="522" y="179"/>
                  <a:pt x="580" y="165"/>
                </a:cubicBezTo>
                <a:cubicBezTo>
                  <a:pt x="638" y="151"/>
                  <a:pt x="705" y="118"/>
                  <a:pt x="752" y="101"/>
                </a:cubicBezTo>
                <a:cubicBezTo>
                  <a:pt x="799" y="84"/>
                  <a:pt x="820" y="74"/>
                  <a:pt x="860" y="61"/>
                </a:cubicBezTo>
                <a:cubicBezTo>
                  <a:pt x="900" y="48"/>
                  <a:pt x="944" y="31"/>
                  <a:pt x="992" y="21"/>
                </a:cubicBezTo>
                <a:cubicBezTo>
                  <a:pt x="1040" y="11"/>
                  <a:pt x="1090" y="2"/>
                  <a:pt x="1148" y="1"/>
                </a:cubicBezTo>
                <a:cubicBezTo>
                  <a:pt x="1206" y="0"/>
                  <a:pt x="1276" y="5"/>
                  <a:pt x="1340" y="13"/>
                </a:cubicBezTo>
                <a:cubicBezTo>
                  <a:pt x="1404" y="21"/>
                  <a:pt x="1492" y="41"/>
                  <a:pt x="1532" y="49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854520" y="1411200"/>
            <a:ext cx="90360" cy="800280"/>
          </a:xfrm>
          <a:custGeom>
            <a:avLst/>
            <a:gdLst/>
            <a:ahLst/>
            <a:rect l="l" t="t" r="r" b="b"/>
            <a:pathLst>
              <a:path w="57" h="504">
                <a:moveTo>
                  <a:pt x="54" y="0"/>
                </a:moveTo>
                <a:cubicBezTo>
                  <a:pt x="49" y="10"/>
                  <a:pt x="35" y="31"/>
                  <a:pt x="26" y="60"/>
                </a:cubicBezTo>
                <a:cubicBezTo>
                  <a:pt x="17" y="89"/>
                  <a:pt x="4" y="129"/>
                  <a:pt x="2" y="172"/>
                </a:cubicBezTo>
                <a:cubicBezTo>
                  <a:pt x="0" y="215"/>
                  <a:pt x="6" y="271"/>
                  <a:pt x="14" y="316"/>
                </a:cubicBezTo>
                <a:cubicBezTo>
                  <a:pt x="22" y="361"/>
                  <a:pt x="43" y="409"/>
                  <a:pt x="50" y="440"/>
                </a:cubicBezTo>
                <a:cubicBezTo>
                  <a:pt x="57" y="471"/>
                  <a:pt x="53" y="491"/>
                  <a:pt x="54" y="50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96960" y="2803680"/>
            <a:ext cx="2432160" cy="209520"/>
          </a:xfrm>
          <a:custGeom>
            <a:avLst/>
            <a:gdLst/>
            <a:ahLst/>
            <a:rect l="l" t="t" r="r" b="b"/>
            <a:pathLst>
              <a:path w="1532" h="132">
                <a:moveTo>
                  <a:pt x="0" y="132"/>
                </a:moveTo>
                <a:cubicBezTo>
                  <a:pt x="22" y="127"/>
                  <a:pt x="86" y="112"/>
                  <a:pt x="133" y="101"/>
                </a:cubicBezTo>
                <a:cubicBezTo>
                  <a:pt x="180" y="90"/>
                  <a:pt x="226" y="77"/>
                  <a:pt x="281" y="65"/>
                </a:cubicBezTo>
                <a:cubicBezTo>
                  <a:pt x="336" y="53"/>
                  <a:pt x="400" y="38"/>
                  <a:pt x="461" y="29"/>
                </a:cubicBezTo>
                <a:cubicBezTo>
                  <a:pt x="522" y="20"/>
                  <a:pt x="594" y="14"/>
                  <a:pt x="649" y="9"/>
                </a:cubicBezTo>
                <a:cubicBezTo>
                  <a:pt x="704" y="4"/>
                  <a:pt x="742" y="2"/>
                  <a:pt x="789" y="1"/>
                </a:cubicBezTo>
                <a:cubicBezTo>
                  <a:pt x="836" y="0"/>
                  <a:pt x="885" y="2"/>
                  <a:pt x="933" y="5"/>
                </a:cubicBezTo>
                <a:cubicBezTo>
                  <a:pt x="981" y="8"/>
                  <a:pt x="1024" y="10"/>
                  <a:pt x="1077" y="17"/>
                </a:cubicBezTo>
                <a:cubicBezTo>
                  <a:pt x="1130" y="24"/>
                  <a:pt x="1196" y="38"/>
                  <a:pt x="1249" y="49"/>
                </a:cubicBezTo>
                <a:cubicBezTo>
                  <a:pt x="1302" y="60"/>
                  <a:pt x="1350" y="73"/>
                  <a:pt x="1397" y="85"/>
                </a:cubicBezTo>
                <a:cubicBezTo>
                  <a:pt x="1444" y="97"/>
                  <a:pt x="1504" y="116"/>
                  <a:pt x="1532" y="12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08840" y="3022560"/>
            <a:ext cx="57240" cy="800280"/>
          </a:xfrm>
          <a:custGeom>
            <a:avLst/>
            <a:gdLst/>
            <a:ahLst/>
            <a:rect l="l" t="t" r="r" b="b"/>
            <a:pathLst>
              <a:path w="57" h="504">
                <a:moveTo>
                  <a:pt x="54" y="0"/>
                </a:moveTo>
                <a:cubicBezTo>
                  <a:pt x="49" y="10"/>
                  <a:pt x="35" y="31"/>
                  <a:pt x="26" y="60"/>
                </a:cubicBezTo>
                <a:cubicBezTo>
                  <a:pt x="17" y="89"/>
                  <a:pt x="4" y="129"/>
                  <a:pt x="2" y="172"/>
                </a:cubicBezTo>
                <a:cubicBezTo>
                  <a:pt x="0" y="215"/>
                  <a:pt x="6" y="271"/>
                  <a:pt x="14" y="316"/>
                </a:cubicBezTo>
                <a:cubicBezTo>
                  <a:pt x="22" y="361"/>
                  <a:pt x="43" y="409"/>
                  <a:pt x="50" y="440"/>
                </a:cubicBezTo>
                <a:cubicBezTo>
                  <a:pt x="57" y="471"/>
                  <a:pt x="53" y="491"/>
                  <a:pt x="54" y="50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658440" y="3335400"/>
            <a:ext cx="730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690120" y="3376440"/>
            <a:ext cx="647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1304640" y="3341520"/>
            <a:ext cx="7308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344600" y="2917800"/>
            <a:ext cx="0" cy="503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87400" y="3068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344600" y="286560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063880" y="2806560"/>
            <a:ext cx="0" cy="208080"/>
          </a:xfrm>
          <a:prstGeom prst="line">
            <a:avLst/>
          </a:prstGeom>
          <a:ln w="19080">
            <a:solidFill>
              <a:srgbClr val="333399"/>
            </a:solidFill>
            <a:miter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338120" y="2936880"/>
            <a:ext cx="204840" cy="174600"/>
          </a:xfrm>
          <a:custGeom>
            <a:avLst/>
            <a:gdLst/>
            <a:ahLst/>
            <a:rect l="l" t="t" r="r" b="b"/>
            <a:pathLst>
              <a:path w="129" h="110">
                <a:moveTo>
                  <a:pt x="0" y="0"/>
                </a:moveTo>
                <a:cubicBezTo>
                  <a:pt x="7" y="2"/>
                  <a:pt x="25" y="3"/>
                  <a:pt x="41" y="12"/>
                </a:cubicBezTo>
                <a:cubicBezTo>
                  <a:pt x="57" y="21"/>
                  <a:pt x="82" y="38"/>
                  <a:pt x="97" y="54"/>
                </a:cubicBezTo>
                <a:cubicBezTo>
                  <a:pt x="112" y="70"/>
                  <a:pt x="122" y="98"/>
                  <a:pt x="129" y="11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325520" y="3017880"/>
            <a:ext cx="71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066760" y="2892600"/>
            <a:ext cx="273240" cy="314280"/>
          </a:xfrm>
          <a:custGeom>
            <a:avLst/>
            <a:gdLst/>
            <a:ahLst/>
            <a:rect l="l" t="t" r="r" b="b"/>
            <a:pathLst>
              <a:path w="172" h="198">
                <a:moveTo>
                  <a:pt x="0" y="0"/>
                </a:moveTo>
                <a:cubicBezTo>
                  <a:pt x="8" y="3"/>
                  <a:pt x="30" y="5"/>
                  <a:pt x="46" y="18"/>
                </a:cubicBezTo>
                <a:cubicBezTo>
                  <a:pt x="62" y="31"/>
                  <a:pt x="79" y="54"/>
                  <a:pt x="94" y="78"/>
                </a:cubicBezTo>
                <a:cubicBezTo>
                  <a:pt x="109" y="102"/>
                  <a:pt x="121" y="142"/>
                  <a:pt x="134" y="162"/>
                </a:cubicBezTo>
                <a:cubicBezTo>
                  <a:pt x="147" y="182"/>
                  <a:pt x="164" y="191"/>
                  <a:pt x="172" y="198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274840" y="3029040"/>
            <a:ext cx="430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1" i="1" lang="en-US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211640" y="17478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771640" y="321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752560" y="3233880"/>
            <a:ext cx="432000" cy="431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199040" y="1766880"/>
            <a:ext cx="431640" cy="431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490920" y="3278160"/>
            <a:ext cx="230328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теореме Бет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ext,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FX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ext,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XF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rot="7065600">
            <a:off x="3567960" y="4017600"/>
            <a:ext cx="360360" cy="217800"/>
          </a:xfrm>
          <a:prstGeom prst="rightArrow">
            <a:avLst>
              <a:gd name="adj1" fmla="val 50361"/>
              <a:gd name="adj2" fmla="val 65691"/>
            </a:avLst>
          </a:prstGeom>
          <a:solidFill>
            <a:srgbClr val="bbe0e3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rot="3520800">
            <a:off x="4827240" y="4011480"/>
            <a:ext cx="360360" cy="217800"/>
          </a:xfrm>
          <a:prstGeom prst="rightArrow">
            <a:avLst>
              <a:gd name="adj1" fmla="val 50361"/>
              <a:gd name="adj2" fmla="val 65691"/>
            </a:avLst>
          </a:prstGeom>
          <a:solidFill>
            <a:srgbClr val="bbe0e3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556000" y="4221000"/>
            <a:ext cx="2232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508720" y="3206880"/>
            <a:ext cx="1832040" cy="1238040"/>
          </a:xfrm>
          <a:custGeom>
            <a:avLst/>
            <a:gdLst/>
            <a:ahLst/>
            <a:rect l="l" t="t" r="r" b="b"/>
            <a:pathLst>
              <a:path w="1244" h="780">
                <a:moveTo>
                  <a:pt x="0" y="780"/>
                </a:moveTo>
                <a:cubicBezTo>
                  <a:pt x="50" y="775"/>
                  <a:pt x="202" y="773"/>
                  <a:pt x="300" y="752"/>
                </a:cubicBezTo>
                <a:cubicBezTo>
                  <a:pt x="398" y="731"/>
                  <a:pt x="498" y="700"/>
                  <a:pt x="592" y="656"/>
                </a:cubicBezTo>
                <a:cubicBezTo>
                  <a:pt x="686" y="612"/>
                  <a:pt x="781" y="556"/>
                  <a:pt x="864" y="488"/>
                </a:cubicBezTo>
                <a:cubicBezTo>
                  <a:pt x="947" y="420"/>
                  <a:pt x="1029" y="329"/>
                  <a:pt x="1092" y="248"/>
                </a:cubicBezTo>
                <a:cubicBezTo>
                  <a:pt x="1155" y="167"/>
                  <a:pt x="1212" y="52"/>
                  <a:pt x="1244" y="0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763640" y="3619440"/>
            <a:ext cx="1766880" cy="1308240"/>
          </a:xfrm>
          <a:custGeom>
            <a:avLst/>
            <a:gdLst/>
            <a:ahLst/>
            <a:rect l="l" t="t" r="r" b="b"/>
            <a:pathLst>
              <a:path w="1251" h="824">
                <a:moveTo>
                  <a:pt x="0" y="0"/>
                </a:moveTo>
                <a:cubicBezTo>
                  <a:pt x="6" y="32"/>
                  <a:pt x="4" y="119"/>
                  <a:pt x="30" y="190"/>
                </a:cubicBezTo>
                <a:cubicBezTo>
                  <a:pt x="56" y="261"/>
                  <a:pt x="92" y="352"/>
                  <a:pt x="155" y="424"/>
                </a:cubicBezTo>
                <a:cubicBezTo>
                  <a:pt x="218" y="496"/>
                  <a:pt x="307" y="568"/>
                  <a:pt x="411" y="624"/>
                </a:cubicBezTo>
                <a:cubicBezTo>
                  <a:pt x="515" y="680"/>
                  <a:pt x="639" y="727"/>
                  <a:pt x="779" y="760"/>
                </a:cubicBezTo>
                <a:cubicBezTo>
                  <a:pt x="919" y="793"/>
                  <a:pt x="1153" y="811"/>
                  <a:pt x="1251" y="824"/>
                </a:cubicBezTo>
              </a:path>
            </a:pathLst>
          </a:custGeom>
          <a:noFill/>
          <a:ln w="572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499000" y="3166920"/>
            <a:ext cx="2416320" cy="1760760"/>
          </a:xfrm>
          <a:custGeom>
            <a:avLst/>
            <a:gdLst/>
            <a:ahLst/>
            <a:rect l="l" t="t" r="r" b="b"/>
            <a:pathLst>
              <a:path w="1522" h="1109">
                <a:moveTo>
                  <a:pt x="1522" y="0"/>
                </a:moveTo>
                <a:cubicBezTo>
                  <a:pt x="1515" y="34"/>
                  <a:pt x="1510" y="126"/>
                  <a:pt x="1480" y="205"/>
                </a:cubicBezTo>
                <a:cubicBezTo>
                  <a:pt x="1450" y="284"/>
                  <a:pt x="1407" y="393"/>
                  <a:pt x="1344" y="477"/>
                </a:cubicBezTo>
                <a:cubicBezTo>
                  <a:pt x="1281" y="561"/>
                  <a:pt x="1200" y="637"/>
                  <a:pt x="1104" y="709"/>
                </a:cubicBezTo>
                <a:cubicBezTo>
                  <a:pt x="1008" y="781"/>
                  <a:pt x="891" y="853"/>
                  <a:pt x="768" y="909"/>
                </a:cubicBezTo>
                <a:cubicBezTo>
                  <a:pt x="645" y="965"/>
                  <a:pt x="496" y="1012"/>
                  <a:pt x="368" y="1045"/>
                </a:cubicBezTo>
                <a:cubicBezTo>
                  <a:pt x="240" y="1078"/>
                  <a:pt x="77" y="1096"/>
                  <a:pt x="0" y="1109"/>
                </a:cubicBezTo>
              </a:path>
            </a:pathLst>
          </a:custGeom>
          <a:noFill/>
          <a:ln w="572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517920" y="4691160"/>
            <a:ext cx="205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П р а в и л о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79280" y="5089680"/>
            <a:ext cx="8832960" cy="14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ния влияния силового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акто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тически неопределимой систем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точностью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ожител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–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обна эпюр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мещений в систем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удалённой связью, реакцией которой является искомый факт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 воздейств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подобног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или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219640" y="1617840"/>
            <a:ext cx="179280" cy="71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219640" y="1625760"/>
            <a:ext cx="17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311800" y="1477800"/>
            <a:ext cx="0" cy="1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280120" y="1427040"/>
            <a:ext cx="61920" cy="65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280120" y="1589040"/>
            <a:ext cx="61920" cy="65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89640" y="4226040"/>
            <a:ext cx="938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= X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69960" y="3500280"/>
            <a:ext cx="1152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Здес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7" dur="indefinite" restart="never" nodeType="tmRoot">
          <p:childTnLst>
            <p:seq>
              <p:cTn id="2108" dur="indefinite" nodeType="mainSeq">
                <p:childTnLst>
                  <p:par>
                    <p:cTn id="2109" fill="hold">
                      <p:stCondLst>
                        <p:cond delay="0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13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16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19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22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5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28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31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34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37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40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43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46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0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1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2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6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8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1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2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3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6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7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8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1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6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8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3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8" fill="hold">
                            <p:stCondLst>
                              <p:cond delay="4500"/>
                            </p:stCondLst>
                            <p:childTnLst>
                              <p:par>
                                <p:cTn id="218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91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94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fill="hold">
                      <p:stCondLst>
                        <p:cond delay="indefinite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9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1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05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08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11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14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17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20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23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26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29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32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35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38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41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44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50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3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56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59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62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65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68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72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75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6" fill="hold">
                      <p:stCondLst>
                        <p:cond delay="indefinite"/>
                      </p:stCondLst>
                      <p:childTnLst>
                        <p:par>
                          <p:cTn id="2277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79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2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5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8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91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5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0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1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2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06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fill="hold">
                      <p:stCondLst>
                        <p:cond delay="indefinite"/>
                      </p:stCondLst>
                      <p:childTnLst>
                        <p:par>
                          <p:cTn id="2308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1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2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3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8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9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0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4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5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6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31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5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6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7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8" fill="hold">
                      <p:stCondLst>
                        <p:cond delay="indefinite"/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2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3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4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48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51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54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57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60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63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66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0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1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5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6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7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8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81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84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5" fill="hold">
                            <p:stCondLst>
                              <p:cond delay="5000"/>
                            </p:stCondLst>
                            <p:childTnLst>
                              <p:par>
                                <p:cTn id="238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88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91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2" fill="hold">
                      <p:stCondLst>
                        <p:cond delay="indefinite"/>
                      </p:stCondLst>
                      <p:childTnLst>
                        <p:par>
                          <p:cTn id="2393" fill="hold">
                            <p:stCondLst>
                              <p:cond delay="0"/>
                            </p:stCondLst>
                            <p:childTnLst>
                              <p:par>
                                <p:cTn id="239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96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99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0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4" fill="hold">
                      <p:stCondLst>
                        <p:cond delay="indefinite"/>
                      </p:stCondLst>
                      <p:childTnLst>
                        <p:par>
                          <p:cTn id="2405" fill="hold">
                            <p:stCondLst>
                              <p:cond delay="0"/>
                            </p:stCondLst>
                            <p:childTnLst>
                              <p:par>
                                <p:cTn id="24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8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9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0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3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4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5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0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3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4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5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28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36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39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3" dur="10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4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5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8" dur="1000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9" dur="10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0" dur="10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5" dur="8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6" dur="8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7" dur="8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8" fill="hold">
                      <p:stCondLst>
                        <p:cond delay="indefinite"/>
                      </p:stCondLst>
                      <p:childTnLst>
                        <p:par>
                          <p:cTn id="2459" fill="hold">
                            <p:stCondLst>
                              <p:cond delay="0"/>
                            </p:stCondLst>
                            <p:childTnLst>
                              <p:par>
                                <p:cTn id="24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2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6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8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9" fill="hold">
                      <p:stCondLst>
                        <p:cond delay="indefinite"/>
                      </p:stCondLst>
                      <p:childTnLst>
                        <p:par>
                          <p:cTn id="2470" fill="hold">
                            <p:stCondLst>
                              <p:cond delay="0"/>
                            </p:stCondLst>
                            <p:childTnLst>
                              <p:par>
                                <p:cTn id="24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73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7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8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9" fill="hold">
                      <p:stCondLst>
                        <p:cond delay="indefinite"/>
                      </p:stCondLst>
                      <p:childTnLst>
                        <p:par>
                          <p:cTn id="2480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83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4" fill="hold">
                      <p:stCondLst>
                        <p:cond delay="indefinite"/>
                      </p:stCondLst>
                      <p:childTnLst>
                        <p:par>
                          <p:cTn id="2485" fill="hold">
                            <p:stCondLst>
                              <p:cond delay="0"/>
                            </p:stCondLst>
                            <p:childTnLst>
                              <p:par>
                                <p:cTn id="248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88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91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4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5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6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0" dur="8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1" dur="8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2" dur="8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3" fill="hold">
                            <p:stCondLst>
                              <p:cond delay="4400"/>
                            </p:stCondLst>
                            <p:childTnLst>
                              <p:par>
                                <p:cTn id="25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6" dur="8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7" dur="8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8" dur="8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9" fill="hold">
                            <p:stCondLst>
                              <p:cond delay="6800"/>
                            </p:stCondLst>
                            <p:childTnLst>
                              <p:par>
                                <p:cTn id="25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2" dur="80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3" dur="80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4" dur="80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5" fill="hold">
                            <p:stCondLst>
                              <p:cond delay="9040"/>
                            </p:stCondLst>
                            <p:childTnLst>
                              <p:par>
                                <p:cTn id="25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8" dur="8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9" dur="8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0" dur="8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9"/>
            </a:gs>
            <a:gs pos="100000">
              <a:srgbClr val="c5f4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50920" y="260280"/>
            <a:ext cx="8642160" cy="5148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 Black"/>
              </a:rPr>
              <a:t>Использование кинематического метод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66720" y="3502080"/>
            <a:ext cx="179280" cy="7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66720" y="3500280"/>
            <a:ext cx="17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673280" y="3502080"/>
            <a:ext cx="179280" cy="7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673280" y="3510000"/>
            <a:ext cx="17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054320" y="3502080"/>
            <a:ext cx="179640" cy="7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054320" y="3500280"/>
            <a:ext cx="17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336920" y="2376360"/>
            <a:ext cx="432000" cy="289080"/>
          </a:xfrm>
          <a:prstGeom prst="rightArrow">
            <a:avLst>
              <a:gd name="adj1" fmla="val 50000"/>
              <a:gd name="adj2" fmla="val 37360"/>
            </a:avLst>
          </a:prstGeom>
          <a:solidFill>
            <a:srgbClr val="bbe0e3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743120" y="2268360"/>
            <a:ext cx="1414440" cy="437040"/>
          </a:xfrm>
          <a:prstGeom prst="rect">
            <a:avLst/>
          </a:prstGeom>
          <a:gradFill rotWithShape="0">
            <a:gsLst>
              <a:gs pos="0">
                <a:srgbClr val="bbe0e3">
                  <a:alpha val="60392"/>
                </a:srgbClr>
              </a:gs>
              <a:gs pos="50000">
                <a:srgbClr val="ffffff">
                  <a:alpha val="62352"/>
                </a:srgbClr>
              </a:gs>
              <a:gs pos="100000">
                <a:srgbClr val="bbe0e3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.В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57080" y="1341360"/>
            <a:ext cx="3383280" cy="2158920"/>
          </a:xfrm>
          <a:custGeom>
            <a:avLst/>
            <a:gdLst/>
            <a:ahLst/>
            <a:rect l="l" t="t" r="r" b="b"/>
            <a:pathLst>
              <a:path w="2131" h="1451">
                <a:moveTo>
                  <a:pt x="0" y="1451"/>
                </a:moveTo>
                <a:lnTo>
                  <a:pt x="0" y="0"/>
                </a:lnTo>
                <a:lnTo>
                  <a:pt x="2131" y="0"/>
                </a:lnTo>
                <a:lnTo>
                  <a:pt x="2131" y="1447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195640" y="830160"/>
            <a:ext cx="45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олучение «модели» линии влия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132000" y="1341360"/>
            <a:ext cx="0" cy="215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763640" y="1341360"/>
            <a:ext cx="0" cy="215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043080" y="3502080"/>
            <a:ext cx="179640" cy="71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043080" y="3510000"/>
            <a:ext cx="17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55640" y="2095560"/>
            <a:ext cx="338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55640" y="2833560"/>
            <a:ext cx="338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443320" y="19843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371680" y="1865160"/>
            <a:ext cx="316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933800" y="1341360"/>
            <a:ext cx="3383280" cy="2158920"/>
          </a:xfrm>
          <a:custGeom>
            <a:avLst/>
            <a:gdLst/>
            <a:ahLst/>
            <a:rect l="l" t="t" r="r" b="b"/>
            <a:pathLst>
              <a:path w="2131" h="1451">
                <a:moveTo>
                  <a:pt x="0" y="1451"/>
                </a:moveTo>
                <a:lnTo>
                  <a:pt x="0" y="0"/>
                </a:lnTo>
                <a:lnTo>
                  <a:pt x="2131" y="0"/>
                </a:lnTo>
                <a:lnTo>
                  <a:pt x="2131" y="1447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932360" y="2095560"/>
            <a:ext cx="338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932360" y="2835360"/>
            <a:ext cx="338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308720" y="1341360"/>
            <a:ext cx="0" cy="215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940360" y="1341360"/>
            <a:ext cx="0" cy="215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588000" y="2048040"/>
            <a:ext cx="90720" cy="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280560" y="1959120"/>
            <a:ext cx="288000" cy="28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30150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301507"/>
              </a:path>
            </a:pathLst>
          </a:custGeom>
          <a:noFill/>
          <a:ln w="28440">
            <a:solidFill>
              <a:srgbClr val="333399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6697800" y="1962000"/>
            <a:ext cx="288000" cy="28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06133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061339"/>
              </a:path>
            </a:pathLst>
          </a:custGeom>
          <a:noFill/>
          <a:ln w="28440">
            <a:solidFill>
              <a:srgbClr val="333399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257880" y="2166840"/>
            <a:ext cx="835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i="1" lang="en-US" sz="1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~</a:t>
            </a:r>
            <a:r>
              <a:rPr b="1" i="1" lang="en-US" sz="1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M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932360" y="1576440"/>
            <a:ext cx="1687680" cy="625320"/>
          </a:xfrm>
          <a:custGeom>
            <a:avLst/>
            <a:gdLst/>
            <a:ahLst/>
            <a:rect l="l" t="t" r="r" b="b"/>
            <a:pathLst>
              <a:path w="1063" h="394">
                <a:moveTo>
                  <a:pt x="0" y="327"/>
                </a:moveTo>
                <a:cubicBezTo>
                  <a:pt x="15" y="331"/>
                  <a:pt x="49" y="339"/>
                  <a:pt x="88" y="348"/>
                </a:cubicBezTo>
                <a:cubicBezTo>
                  <a:pt x="127" y="357"/>
                  <a:pt x="183" y="374"/>
                  <a:pt x="232" y="381"/>
                </a:cubicBezTo>
                <a:cubicBezTo>
                  <a:pt x="281" y="388"/>
                  <a:pt x="337" y="394"/>
                  <a:pt x="385" y="393"/>
                </a:cubicBezTo>
                <a:cubicBezTo>
                  <a:pt x="433" y="392"/>
                  <a:pt x="482" y="383"/>
                  <a:pt x="523" y="372"/>
                </a:cubicBezTo>
                <a:cubicBezTo>
                  <a:pt x="564" y="361"/>
                  <a:pt x="590" y="350"/>
                  <a:pt x="634" y="327"/>
                </a:cubicBezTo>
                <a:cubicBezTo>
                  <a:pt x="678" y="304"/>
                  <a:pt x="741" y="265"/>
                  <a:pt x="790" y="231"/>
                </a:cubicBezTo>
                <a:cubicBezTo>
                  <a:pt x="839" y="197"/>
                  <a:pt x="886" y="158"/>
                  <a:pt x="931" y="120"/>
                </a:cubicBezTo>
                <a:cubicBezTo>
                  <a:pt x="976" y="82"/>
                  <a:pt x="1036" y="25"/>
                  <a:pt x="1063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6621480" y="1576440"/>
            <a:ext cx="1695600" cy="625320"/>
          </a:xfrm>
          <a:custGeom>
            <a:avLst/>
            <a:gdLst/>
            <a:ahLst/>
            <a:rect l="l" t="t" r="r" b="b"/>
            <a:pathLst>
              <a:path w="1063" h="394">
                <a:moveTo>
                  <a:pt x="0" y="327"/>
                </a:moveTo>
                <a:cubicBezTo>
                  <a:pt x="15" y="331"/>
                  <a:pt x="49" y="339"/>
                  <a:pt x="88" y="348"/>
                </a:cubicBezTo>
                <a:cubicBezTo>
                  <a:pt x="127" y="357"/>
                  <a:pt x="183" y="374"/>
                  <a:pt x="232" y="381"/>
                </a:cubicBezTo>
                <a:cubicBezTo>
                  <a:pt x="281" y="388"/>
                  <a:pt x="337" y="394"/>
                  <a:pt x="385" y="393"/>
                </a:cubicBezTo>
                <a:cubicBezTo>
                  <a:pt x="433" y="392"/>
                  <a:pt x="482" y="383"/>
                  <a:pt x="523" y="372"/>
                </a:cubicBezTo>
                <a:cubicBezTo>
                  <a:pt x="564" y="361"/>
                  <a:pt x="590" y="350"/>
                  <a:pt x="634" y="327"/>
                </a:cubicBezTo>
                <a:cubicBezTo>
                  <a:pt x="678" y="304"/>
                  <a:pt x="741" y="265"/>
                  <a:pt x="790" y="231"/>
                </a:cubicBezTo>
                <a:cubicBezTo>
                  <a:pt x="839" y="197"/>
                  <a:pt x="886" y="158"/>
                  <a:pt x="931" y="120"/>
                </a:cubicBezTo>
                <a:cubicBezTo>
                  <a:pt x="976" y="82"/>
                  <a:pt x="1036" y="25"/>
                  <a:pt x="1063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861160" y="1343160"/>
            <a:ext cx="172800" cy="2158920"/>
          </a:xfrm>
          <a:custGeom>
            <a:avLst/>
            <a:gdLst/>
            <a:ahLst/>
            <a:rect l="l" t="t" r="r" b="b"/>
            <a:pathLst>
              <a:path w="109" h="1450">
                <a:moveTo>
                  <a:pt x="55" y="0"/>
                </a:moveTo>
                <a:cubicBezTo>
                  <a:pt x="52" y="13"/>
                  <a:pt x="41" y="46"/>
                  <a:pt x="34" y="78"/>
                </a:cubicBezTo>
                <a:cubicBezTo>
                  <a:pt x="27" y="110"/>
                  <a:pt x="16" y="158"/>
                  <a:pt x="10" y="195"/>
                </a:cubicBezTo>
                <a:cubicBezTo>
                  <a:pt x="4" y="232"/>
                  <a:pt x="2" y="268"/>
                  <a:pt x="1" y="300"/>
                </a:cubicBezTo>
                <a:cubicBezTo>
                  <a:pt x="0" y="332"/>
                  <a:pt x="3" y="362"/>
                  <a:pt x="7" y="387"/>
                </a:cubicBezTo>
                <a:cubicBezTo>
                  <a:pt x="11" y="412"/>
                  <a:pt x="18" y="432"/>
                  <a:pt x="25" y="450"/>
                </a:cubicBezTo>
                <a:cubicBezTo>
                  <a:pt x="32" y="468"/>
                  <a:pt x="41" y="481"/>
                  <a:pt x="49" y="498"/>
                </a:cubicBezTo>
                <a:cubicBezTo>
                  <a:pt x="57" y="515"/>
                  <a:pt x="68" y="527"/>
                  <a:pt x="76" y="552"/>
                </a:cubicBezTo>
                <a:cubicBezTo>
                  <a:pt x="84" y="577"/>
                  <a:pt x="95" y="613"/>
                  <a:pt x="100" y="648"/>
                </a:cubicBezTo>
                <a:cubicBezTo>
                  <a:pt x="105" y="683"/>
                  <a:pt x="109" y="722"/>
                  <a:pt x="106" y="762"/>
                </a:cubicBezTo>
                <a:cubicBezTo>
                  <a:pt x="103" y="802"/>
                  <a:pt x="91" y="849"/>
                  <a:pt x="82" y="888"/>
                </a:cubicBezTo>
                <a:cubicBezTo>
                  <a:pt x="73" y="927"/>
                  <a:pt x="58" y="964"/>
                  <a:pt x="50" y="996"/>
                </a:cubicBezTo>
                <a:cubicBezTo>
                  <a:pt x="42" y="1028"/>
                  <a:pt x="35" y="1053"/>
                  <a:pt x="31" y="1083"/>
                </a:cubicBezTo>
                <a:cubicBezTo>
                  <a:pt x="27" y="1113"/>
                  <a:pt x="25" y="1147"/>
                  <a:pt x="25" y="1176"/>
                </a:cubicBezTo>
                <a:cubicBezTo>
                  <a:pt x="25" y="1205"/>
                  <a:pt x="28" y="1230"/>
                  <a:pt x="31" y="1260"/>
                </a:cubicBezTo>
                <a:cubicBezTo>
                  <a:pt x="34" y="1290"/>
                  <a:pt x="40" y="1327"/>
                  <a:pt x="43" y="1359"/>
                </a:cubicBezTo>
                <a:cubicBezTo>
                  <a:pt x="46" y="1391"/>
                  <a:pt x="49" y="1431"/>
                  <a:pt x="50" y="145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7219800" y="1341360"/>
            <a:ext cx="169920" cy="2158920"/>
          </a:xfrm>
          <a:custGeom>
            <a:avLst/>
            <a:gdLst/>
            <a:ahLst/>
            <a:rect l="l" t="t" r="r" b="b"/>
            <a:pathLst>
              <a:path w="109" h="1450">
                <a:moveTo>
                  <a:pt x="55" y="0"/>
                </a:moveTo>
                <a:cubicBezTo>
                  <a:pt x="52" y="13"/>
                  <a:pt x="41" y="46"/>
                  <a:pt x="34" y="78"/>
                </a:cubicBezTo>
                <a:cubicBezTo>
                  <a:pt x="27" y="110"/>
                  <a:pt x="16" y="158"/>
                  <a:pt x="10" y="195"/>
                </a:cubicBezTo>
                <a:cubicBezTo>
                  <a:pt x="4" y="232"/>
                  <a:pt x="2" y="268"/>
                  <a:pt x="1" y="300"/>
                </a:cubicBezTo>
                <a:cubicBezTo>
                  <a:pt x="0" y="332"/>
                  <a:pt x="3" y="362"/>
                  <a:pt x="7" y="387"/>
                </a:cubicBezTo>
                <a:cubicBezTo>
                  <a:pt x="11" y="412"/>
                  <a:pt x="18" y="432"/>
                  <a:pt x="25" y="450"/>
                </a:cubicBezTo>
                <a:cubicBezTo>
                  <a:pt x="32" y="468"/>
                  <a:pt x="41" y="481"/>
                  <a:pt x="49" y="498"/>
                </a:cubicBezTo>
                <a:cubicBezTo>
                  <a:pt x="57" y="515"/>
                  <a:pt x="68" y="527"/>
                  <a:pt x="76" y="552"/>
                </a:cubicBezTo>
                <a:cubicBezTo>
                  <a:pt x="84" y="577"/>
                  <a:pt x="95" y="613"/>
                  <a:pt x="100" y="648"/>
                </a:cubicBezTo>
                <a:cubicBezTo>
                  <a:pt x="105" y="683"/>
                  <a:pt x="109" y="722"/>
                  <a:pt x="106" y="762"/>
                </a:cubicBezTo>
                <a:cubicBezTo>
                  <a:pt x="103" y="802"/>
                  <a:pt x="91" y="849"/>
                  <a:pt x="82" y="888"/>
                </a:cubicBezTo>
                <a:cubicBezTo>
                  <a:pt x="73" y="927"/>
                  <a:pt x="58" y="964"/>
                  <a:pt x="50" y="996"/>
                </a:cubicBezTo>
                <a:cubicBezTo>
                  <a:pt x="42" y="1028"/>
                  <a:pt x="35" y="1053"/>
                  <a:pt x="31" y="1083"/>
                </a:cubicBezTo>
                <a:cubicBezTo>
                  <a:pt x="27" y="1113"/>
                  <a:pt x="25" y="1147"/>
                  <a:pt x="25" y="1176"/>
                </a:cubicBezTo>
                <a:cubicBezTo>
                  <a:pt x="25" y="1205"/>
                  <a:pt x="28" y="1230"/>
                  <a:pt x="31" y="1260"/>
                </a:cubicBezTo>
                <a:cubicBezTo>
                  <a:pt x="34" y="1290"/>
                  <a:pt x="40" y="1327"/>
                  <a:pt x="43" y="1359"/>
                </a:cubicBezTo>
                <a:cubicBezTo>
                  <a:pt x="46" y="1391"/>
                  <a:pt x="49" y="1431"/>
                  <a:pt x="50" y="145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4902120" y="1341360"/>
            <a:ext cx="69840" cy="2158920"/>
          </a:xfrm>
          <a:custGeom>
            <a:avLst/>
            <a:gdLst/>
            <a:ahLst/>
            <a:rect l="l" t="t" r="r" b="b"/>
            <a:pathLst>
              <a:path w="109" h="1450">
                <a:moveTo>
                  <a:pt x="55" y="0"/>
                </a:moveTo>
                <a:cubicBezTo>
                  <a:pt x="52" y="13"/>
                  <a:pt x="41" y="46"/>
                  <a:pt x="34" y="78"/>
                </a:cubicBezTo>
                <a:cubicBezTo>
                  <a:pt x="27" y="110"/>
                  <a:pt x="16" y="158"/>
                  <a:pt x="10" y="195"/>
                </a:cubicBezTo>
                <a:cubicBezTo>
                  <a:pt x="4" y="232"/>
                  <a:pt x="2" y="268"/>
                  <a:pt x="1" y="300"/>
                </a:cubicBezTo>
                <a:cubicBezTo>
                  <a:pt x="0" y="332"/>
                  <a:pt x="3" y="362"/>
                  <a:pt x="7" y="387"/>
                </a:cubicBezTo>
                <a:cubicBezTo>
                  <a:pt x="11" y="412"/>
                  <a:pt x="18" y="432"/>
                  <a:pt x="25" y="450"/>
                </a:cubicBezTo>
                <a:cubicBezTo>
                  <a:pt x="32" y="468"/>
                  <a:pt x="41" y="481"/>
                  <a:pt x="49" y="498"/>
                </a:cubicBezTo>
                <a:cubicBezTo>
                  <a:pt x="57" y="515"/>
                  <a:pt x="68" y="527"/>
                  <a:pt x="76" y="552"/>
                </a:cubicBezTo>
                <a:cubicBezTo>
                  <a:pt x="84" y="577"/>
                  <a:pt x="95" y="613"/>
                  <a:pt x="100" y="648"/>
                </a:cubicBezTo>
                <a:cubicBezTo>
                  <a:pt x="105" y="683"/>
                  <a:pt x="109" y="722"/>
                  <a:pt x="106" y="762"/>
                </a:cubicBezTo>
                <a:cubicBezTo>
                  <a:pt x="103" y="802"/>
                  <a:pt x="91" y="849"/>
                  <a:pt x="82" y="888"/>
                </a:cubicBezTo>
                <a:cubicBezTo>
                  <a:pt x="73" y="927"/>
                  <a:pt x="58" y="964"/>
                  <a:pt x="50" y="996"/>
                </a:cubicBezTo>
                <a:cubicBezTo>
                  <a:pt x="42" y="1028"/>
                  <a:pt x="35" y="1053"/>
                  <a:pt x="31" y="1083"/>
                </a:cubicBezTo>
                <a:cubicBezTo>
                  <a:pt x="27" y="1113"/>
                  <a:pt x="25" y="1147"/>
                  <a:pt x="25" y="1176"/>
                </a:cubicBezTo>
                <a:cubicBezTo>
                  <a:pt x="25" y="1205"/>
                  <a:pt x="28" y="1230"/>
                  <a:pt x="31" y="1260"/>
                </a:cubicBezTo>
                <a:cubicBezTo>
                  <a:pt x="34" y="1290"/>
                  <a:pt x="40" y="1327"/>
                  <a:pt x="43" y="1359"/>
                </a:cubicBezTo>
                <a:cubicBezTo>
                  <a:pt x="46" y="1391"/>
                  <a:pt x="49" y="1431"/>
                  <a:pt x="50" y="145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8275680" y="1341360"/>
            <a:ext cx="71280" cy="2158920"/>
          </a:xfrm>
          <a:custGeom>
            <a:avLst/>
            <a:gdLst/>
            <a:ahLst/>
            <a:rect l="l" t="t" r="r" b="b"/>
            <a:pathLst>
              <a:path w="109" h="1450">
                <a:moveTo>
                  <a:pt x="55" y="0"/>
                </a:moveTo>
                <a:cubicBezTo>
                  <a:pt x="52" y="13"/>
                  <a:pt x="41" y="46"/>
                  <a:pt x="34" y="78"/>
                </a:cubicBezTo>
                <a:cubicBezTo>
                  <a:pt x="27" y="110"/>
                  <a:pt x="16" y="158"/>
                  <a:pt x="10" y="195"/>
                </a:cubicBezTo>
                <a:cubicBezTo>
                  <a:pt x="4" y="232"/>
                  <a:pt x="2" y="268"/>
                  <a:pt x="1" y="300"/>
                </a:cubicBezTo>
                <a:cubicBezTo>
                  <a:pt x="0" y="332"/>
                  <a:pt x="3" y="362"/>
                  <a:pt x="7" y="387"/>
                </a:cubicBezTo>
                <a:cubicBezTo>
                  <a:pt x="11" y="412"/>
                  <a:pt x="18" y="432"/>
                  <a:pt x="25" y="450"/>
                </a:cubicBezTo>
                <a:cubicBezTo>
                  <a:pt x="32" y="468"/>
                  <a:pt x="41" y="481"/>
                  <a:pt x="49" y="498"/>
                </a:cubicBezTo>
                <a:cubicBezTo>
                  <a:pt x="57" y="515"/>
                  <a:pt x="68" y="527"/>
                  <a:pt x="76" y="552"/>
                </a:cubicBezTo>
                <a:cubicBezTo>
                  <a:pt x="84" y="577"/>
                  <a:pt x="95" y="613"/>
                  <a:pt x="100" y="648"/>
                </a:cubicBezTo>
                <a:cubicBezTo>
                  <a:pt x="105" y="683"/>
                  <a:pt x="109" y="722"/>
                  <a:pt x="106" y="762"/>
                </a:cubicBezTo>
                <a:cubicBezTo>
                  <a:pt x="103" y="802"/>
                  <a:pt x="91" y="849"/>
                  <a:pt x="82" y="888"/>
                </a:cubicBezTo>
                <a:cubicBezTo>
                  <a:pt x="73" y="927"/>
                  <a:pt x="58" y="964"/>
                  <a:pt x="50" y="996"/>
                </a:cubicBezTo>
                <a:cubicBezTo>
                  <a:pt x="42" y="1028"/>
                  <a:pt x="35" y="1053"/>
                  <a:pt x="31" y="1083"/>
                </a:cubicBezTo>
                <a:cubicBezTo>
                  <a:pt x="27" y="1113"/>
                  <a:pt x="25" y="1147"/>
                  <a:pt x="25" y="1176"/>
                </a:cubicBezTo>
                <a:cubicBezTo>
                  <a:pt x="25" y="1205"/>
                  <a:pt x="28" y="1230"/>
                  <a:pt x="31" y="1260"/>
                </a:cubicBezTo>
                <a:cubicBezTo>
                  <a:pt x="34" y="1290"/>
                  <a:pt x="40" y="1327"/>
                  <a:pt x="43" y="1359"/>
                </a:cubicBezTo>
                <a:cubicBezTo>
                  <a:pt x="46" y="1391"/>
                  <a:pt x="49" y="1431"/>
                  <a:pt x="50" y="145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932360" y="2776680"/>
            <a:ext cx="3384720" cy="144360"/>
          </a:xfrm>
          <a:custGeom>
            <a:avLst/>
            <a:gdLst/>
            <a:ahLst/>
            <a:rect l="l" t="t" r="r" b="b"/>
            <a:pathLst>
              <a:path w="2132" h="109">
                <a:moveTo>
                  <a:pt x="0" y="43"/>
                </a:moveTo>
                <a:cubicBezTo>
                  <a:pt x="11" y="41"/>
                  <a:pt x="26" y="39"/>
                  <a:pt x="64" y="34"/>
                </a:cubicBezTo>
                <a:cubicBezTo>
                  <a:pt x="102" y="29"/>
                  <a:pt x="178" y="15"/>
                  <a:pt x="226" y="10"/>
                </a:cubicBezTo>
                <a:cubicBezTo>
                  <a:pt x="274" y="5"/>
                  <a:pt x="312" y="1"/>
                  <a:pt x="352" y="1"/>
                </a:cubicBezTo>
                <a:cubicBezTo>
                  <a:pt x="392" y="1"/>
                  <a:pt x="429" y="3"/>
                  <a:pt x="466" y="7"/>
                </a:cubicBezTo>
                <a:cubicBezTo>
                  <a:pt x="503" y="11"/>
                  <a:pt x="549" y="19"/>
                  <a:pt x="577" y="25"/>
                </a:cubicBezTo>
                <a:cubicBezTo>
                  <a:pt x="605" y="31"/>
                  <a:pt x="614" y="37"/>
                  <a:pt x="635" y="43"/>
                </a:cubicBezTo>
                <a:cubicBezTo>
                  <a:pt x="656" y="49"/>
                  <a:pt x="668" y="54"/>
                  <a:pt x="703" y="61"/>
                </a:cubicBezTo>
                <a:cubicBezTo>
                  <a:pt x="738" y="68"/>
                  <a:pt x="796" y="81"/>
                  <a:pt x="847" y="88"/>
                </a:cubicBezTo>
                <a:cubicBezTo>
                  <a:pt x="898" y="95"/>
                  <a:pt x="959" y="103"/>
                  <a:pt x="1012" y="106"/>
                </a:cubicBezTo>
                <a:cubicBezTo>
                  <a:pt x="1065" y="109"/>
                  <a:pt x="1117" y="109"/>
                  <a:pt x="1168" y="106"/>
                </a:cubicBezTo>
                <a:cubicBezTo>
                  <a:pt x="1219" y="103"/>
                  <a:pt x="1273" y="98"/>
                  <a:pt x="1318" y="91"/>
                </a:cubicBezTo>
                <a:cubicBezTo>
                  <a:pt x="1363" y="84"/>
                  <a:pt x="1412" y="71"/>
                  <a:pt x="1441" y="64"/>
                </a:cubicBezTo>
                <a:cubicBezTo>
                  <a:pt x="1470" y="57"/>
                  <a:pt x="1474" y="51"/>
                  <a:pt x="1492" y="46"/>
                </a:cubicBezTo>
                <a:cubicBezTo>
                  <a:pt x="1510" y="41"/>
                  <a:pt x="1523" y="37"/>
                  <a:pt x="1549" y="31"/>
                </a:cubicBezTo>
                <a:cubicBezTo>
                  <a:pt x="1575" y="25"/>
                  <a:pt x="1614" y="15"/>
                  <a:pt x="1648" y="10"/>
                </a:cubicBezTo>
                <a:cubicBezTo>
                  <a:pt x="1682" y="5"/>
                  <a:pt x="1718" y="2"/>
                  <a:pt x="1753" y="1"/>
                </a:cubicBezTo>
                <a:cubicBezTo>
                  <a:pt x="1788" y="0"/>
                  <a:pt x="1822" y="1"/>
                  <a:pt x="1858" y="4"/>
                </a:cubicBezTo>
                <a:cubicBezTo>
                  <a:pt x="1894" y="7"/>
                  <a:pt x="1932" y="14"/>
                  <a:pt x="1969" y="19"/>
                </a:cubicBezTo>
                <a:cubicBezTo>
                  <a:pt x="2006" y="24"/>
                  <a:pt x="2053" y="30"/>
                  <a:pt x="2080" y="34"/>
                </a:cubicBezTo>
                <a:cubicBezTo>
                  <a:pt x="2107" y="38"/>
                  <a:pt x="2121" y="41"/>
                  <a:pt x="2132" y="4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932360" y="1263600"/>
            <a:ext cx="3384720" cy="179280"/>
          </a:xfrm>
          <a:custGeom>
            <a:avLst/>
            <a:gdLst/>
            <a:ahLst/>
            <a:rect l="l" t="t" r="r" b="b"/>
            <a:pathLst>
              <a:path w="2132" h="109">
                <a:moveTo>
                  <a:pt x="0" y="43"/>
                </a:moveTo>
                <a:cubicBezTo>
                  <a:pt x="11" y="41"/>
                  <a:pt x="26" y="39"/>
                  <a:pt x="64" y="34"/>
                </a:cubicBezTo>
                <a:cubicBezTo>
                  <a:pt x="102" y="29"/>
                  <a:pt x="178" y="15"/>
                  <a:pt x="226" y="10"/>
                </a:cubicBezTo>
                <a:cubicBezTo>
                  <a:pt x="274" y="5"/>
                  <a:pt x="312" y="1"/>
                  <a:pt x="352" y="1"/>
                </a:cubicBezTo>
                <a:cubicBezTo>
                  <a:pt x="392" y="1"/>
                  <a:pt x="429" y="3"/>
                  <a:pt x="466" y="7"/>
                </a:cubicBezTo>
                <a:cubicBezTo>
                  <a:pt x="503" y="11"/>
                  <a:pt x="549" y="19"/>
                  <a:pt x="577" y="25"/>
                </a:cubicBezTo>
                <a:cubicBezTo>
                  <a:pt x="605" y="31"/>
                  <a:pt x="614" y="37"/>
                  <a:pt x="635" y="43"/>
                </a:cubicBezTo>
                <a:cubicBezTo>
                  <a:pt x="656" y="49"/>
                  <a:pt x="668" y="54"/>
                  <a:pt x="703" y="61"/>
                </a:cubicBezTo>
                <a:cubicBezTo>
                  <a:pt x="738" y="68"/>
                  <a:pt x="796" y="81"/>
                  <a:pt x="847" y="88"/>
                </a:cubicBezTo>
                <a:cubicBezTo>
                  <a:pt x="898" y="95"/>
                  <a:pt x="959" y="103"/>
                  <a:pt x="1012" y="106"/>
                </a:cubicBezTo>
                <a:cubicBezTo>
                  <a:pt x="1065" y="109"/>
                  <a:pt x="1117" y="109"/>
                  <a:pt x="1168" y="106"/>
                </a:cubicBezTo>
                <a:cubicBezTo>
                  <a:pt x="1219" y="103"/>
                  <a:pt x="1273" y="98"/>
                  <a:pt x="1318" y="91"/>
                </a:cubicBezTo>
                <a:cubicBezTo>
                  <a:pt x="1363" y="84"/>
                  <a:pt x="1412" y="71"/>
                  <a:pt x="1441" y="64"/>
                </a:cubicBezTo>
                <a:cubicBezTo>
                  <a:pt x="1470" y="57"/>
                  <a:pt x="1474" y="51"/>
                  <a:pt x="1492" y="46"/>
                </a:cubicBezTo>
                <a:cubicBezTo>
                  <a:pt x="1510" y="41"/>
                  <a:pt x="1523" y="37"/>
                  <a:pt x="1549" y="31"/>
                </a:cubicBezTo>
                <a:cubicBezTo>
                  <a:pt x="1575" y="25"/>
                  <a:pt x="1614" y="15"/>
                  <a:pt x="1648" y="10"/>
                </a:cubicBezTo>
                <a:cubicBezTo>
                  <a:pt x="1682" y="5"/>
                  <a:pt x="1718" y="2"/>
                  <a:pt x="1753" y="1"/>
                </a:cubicBezTo>
                <a:cubicBezTo>
                  <a:pt x="1788" y="0"/>
                  <a:pt x="1822" y="1"/>
                  <a:pt x="1858" y="4"/>
                </a:cubicBezTo>
                <a:cubicBezTo>
                  <a:pt x="1894" y="7"/>
                  <a:pt x="1932" y="14"/>
                  <a:pt x="1969" y="19"/>
                </a:cubicBezTo>
                <a:cubicBezTo>
                  <a:pt x="2006" y="24"/>
                  <a:pt x="2053" y="30"/>
                  <a:pt x="2080" y="34"/>
                </a:cubicBezTo>
                <a:cubicBezTo>
                  <a:pt x="2107" y="38"/>
                  <a:pt x="2121" y="41"/>
                  <a:pt x="2132" y="4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844880" y="3502080"/>
            <a:ext cx="179640" cy="71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844880" y="3500280"/>
            <a:ext cx="17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851440" y="3502080"/>
            <a:ext cx="179640" cy="71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851440" y="3510000"/>
            <a:ext cx="17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8232840" y="3502080"/>
            <a:ext cx="179280" cy="71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8232840" y="3500280"/>
            <a:ext cx="17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7221600" y="3502080"/>
            <a:ext cx="179280" cy="71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7221600" y="3510000"/>
            <a:ext cx="17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575400" y="1531800"/>
            <a:ext cx="90360" cy="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rot="19477200">
            <a:off x="6303960" y="1565640"/>
            <a:ext cx="288000" cy="28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30150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301507"/>
              </a:path>
            </a:pathLst>
          </a:custGeom>
          <a:noFill/>
          <a:ln w="28440">
            <a:solidFill>
              <a:srgbClr val="333399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 rot="2203200">
            <a:off x="6639480" y="1579320"/>
            <a:ext cx="288000" cy="28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06133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061339"/>
              </a:path>
            </a:pathLst>
          </a:custGeom>
          <a:noFill/>
          <a:ln w="28440">
            <a:solidFill>
              <a:srgbClr val="333399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933800" y="1341360"/>
            <a:ext cx="3383280" cy="2158920"/>
          </a:xfrm>
          <a:custGeom>
            <a:avLst/>
            <a:gdLst/>
            <a:ahLst/>
            <a:rect l="l" t="t" r="r" b="b"/>
            <a:pathLst>
              <a:path w="2131" h="1451">
                <a:moveTo>
                  <a:pt x="0" y="1451"/>
                </a:moveTo>
                <a:lnTo>
                  <a:pt x="0" y="0"/>
                </a:lnTo>
                <a:lnTo>
                  <a:pt x="2131" y="0"/>
                </a:lnTo>
                <a:lnTo>
                  <a:pt x="2131" y="1447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932360" y="2095560"/>
            <a:ext cx="3384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932360" y="2835360"/>
            <a:ext cx="3384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308720" y="1341360"/>
            <a:ext cx="0" cy="2158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940360" y="1341360"/>
            <a:ext cx="0" cy="2158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253200" y="1741320"/>
            <a:ext cx="834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i="1" lang="en-US" sz="5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~</a:t>
            </a:r>
            <a:r>
              <a:rPr b="1" i="1" lang="en-US" sz="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M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1" dur="indefinite" restart="never" nodeType="tmRoot">
          <p:childTnLst>
            <p:seq>
              <p:cTn id="2522" dur="indefinite" nodeType="mainSeq">
                <p:childTnLst>
                  <p:par>
                    <p:cTn id="2523" fill="hold">
                      <p:stCondLst>
                        <p:cond delay="0"/>
                      </p:stCondLst>
                      <p:childTnLst>
                        <p:par>
                          <p:cTn id="2524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7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8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9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33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36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39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42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45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48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51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54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57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60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63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66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69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7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7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77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8" fill="hold">
                            <p:stCondLst>
                              <p:cond delay="4500"/>
                            </p:stCondLst>
                            <p:childTnLst>
                              <p:par>
                                <p:cTn id="257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81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2" fill="hold">
                      <p:stCondLst>
                        <p:cond delay="indefinite"/>
                      </p:stCondLst>
                      <p:childTnLst>
                        <p:par>
                          <p:cTn id="2583" fill="hold">
                            <p:stCondLst>
                              <p:cond delay="0"/>
                            </p:stCondLst>
                            <p:childTnLst>
                              <p:par>
                                <p:cTn id="25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6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8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92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95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98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01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04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07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10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13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16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19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22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25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28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32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3" fill="hold">
                            <p:stCondLst>
                              <p:cond delay="5000"/>
                            </p:stCondLst>
                            <p:childTnLst>
                              <p:par>
                                <p:cTn id="26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36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3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0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3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4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5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6" fill="hold">
                      <p:stCondLst>
                        <p:cond delay="indefinite"/>
                      </p:stCondLst>
                      <p:childTnLst>
                        <p:par>
                          <p:cTn id="2647" fill="hold">
                            <p:stCondLst>
                              <p:cond delay="0"/>
                            </p:stCondLst>
                            <p:childTnLst>
                              <p:par>
                                <p:cTn id="264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50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53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56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59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62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64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67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0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3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6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9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2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5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8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92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95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98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01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04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07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10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13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6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9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2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26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9"/>
            </a:gs>
            <a:gs pos="100000">
              <a:srgbClr val="c5f4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50920" y="260280"/>
            <a:ext cx="8642160" cy="5148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 Black"/>
              </a:rPr>
              <a:t>Использование кинематического метод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66720" y="3502080"/>
            <a:ext cx="179280" cy="7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66720" y="3500280"/>
            <a:ext cx="17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673280" y="3502080"/>
            <a:ext cx="179280" cy="7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673280" y="3510000"/>
            <a:ext cx="17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054320" y="3502080"/>
            <a:ext cx="179640" cy="7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054320" y="3500280"/>
            <a:ext cx="17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336920" y="2376360"/>
            <a:ext cx="432000" cy="289080"/>
          </a:xfrm>
          <a:prstGeom prst="rightArrow">
            <a:avLst>
              <a:gd name="adj1" fmla="val 50000"/>
              <a:gd name="adj2" fmla="val 37360"/>
            </a:avLst>
          </a:prstGeom>
          <a:solidFill>
            <a:srgbClr val="bbe0e3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743120" y="2268360"/>
            <a:ext cx="1414440" cy="437040"/>
          </a:xfrm>
          <a:prstGeom prst="rect">
            <a:avLst/>
          </a:prstGeom>
          <a:gradFill rotWithShape="0">
            <a:gsLst>
              <a:gs pos="0">
                <a:srgbClr val="bbe0e3">
                  <a:alpha val="60392"/>
                </a:srgbClr>
              </a:gs>
              <a:gs pos="50000">
                <a:srgbClr val="ffffff">
                  <a:alpha val="62352"/>
                </a:srgbClr>
              </a:gs>
              <a:gs pos="100000">
                <a:srgbClr val="bbe0e3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.В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57080" y="1341360"/>
            <a:ext cx="3383280" cy="2158920"/>
          </a:xfrm>
          <a:custGeom>
            <a:avLst/>
            <a:gdLst/>
            <a:ahLst/>
            <a:rect l="l" t="t" r="r" b="b"/>
            <a:pathLst>
              <a:path w="2131" h="1451">
                <a:moveTo>
                  <a:pt x="0" y="1451"/>
                </a:moveTo>
                <a:lnTo>
                  <a:pt x="0" y="0"/>
                </a:lnTo>
                <a:lnTo>
                  <a:pt x="2131" y="0"/>
                </a:lnTo>
                <a:lnTo>
                  <a:pt x="2131" y="1447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195640" y="830160"/>
            <a:ext cx="45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олучение «модели» линии влия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132000" y="1341360"/>
            <a:ext cx="0" cy="215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763640" y="1341360"/>
            <a:ext cx="0" cy="215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043080" y="3502080"/>
            <a:ext cx="179640" cy="71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043080" y="3510000"/>
            <a:ext cx="17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55640" y="2095560"/>
            <a:ext cx="338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55640" y="2833560"/>
            <a:ext cx="338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443320" y="19843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371680" y="1865160"/>
            <a:ext cx="316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932360" y="1571760"/>
            <a:ext cx="1684440" cy="630000"/>
          </a:xfrm>
          <a:custGeom>
            <a:avLst/>
            <a:gdLst/>
            <a:ahLst/>
            <a:rect l="l" t="t" r="r" b="b"/>
            <a:pathLst>
              <a:path w="1061" h="397">
                <a:moveTo>
                  <a:pt x="0" y="330"/>
                </a:moveTo>
                <a:cubicBezTo>
                  <a:pt x="15" y="334"/>
                  <a:pt x="49" y="342"/>
                  <a:pt x="88" y="351"/>
                </a:cubicBezTo>
                <a:cubicBezTo>
                  <a:pt x="127" y="360"/>
                  <a:pt x="183" y="377"/>
                  <a:pt x="232" y="384"/>
                </a:cubicBezTo>
                <a:cubicBezTo>
                  <a:pt x="281" y="391"/>
                  <a:pt x="337" y="397"/>
                  <a:pt x="385" y="396"/>
                </a:cubicBezTo>
                <a:cubicBezTo>
                  <a:pt x="433" y="395"/>
                  <a:pt x="482" y="386"/>
                  <a:pt x="523" y="375"/>
                </a:cubicBezTo>
                <a:cubicBezTo>
                  <a:pt x="564" y="364"/>
                  <a:pt x="590" y="353"/>
                  <a:pt x="634" y="330"/>
                </a:cubicBezTo>
                <a:cubicBezTo>
                  <a:pt x="678" y="307"/>
                  <a:pt x="741" y="268"/>
                  <a:pt x="790" y="234"/>
                </a:cubicBezTo>
                <a:cubicBezTo>
                  <a:pt x="839" y="200"/>
                  <a:pt x="886" y="162"/>
                  <a:pt x="931" y="123"/>
                </a:cubicBezTo>
                <a:cubicBezTo>
                  <a:pt x="976" y="84"/>
                  <a:pt x="1003" y="56"/>
                  <a:pt x="1059" y="0"/>
                </a:cubicBezTo>
                <a:cubicBezTo>
                  <a:pt x="1061" y="288"/>
                  <a:pt x="1061" y="261"/>
                  <a:pt x="1061" y="330"/>
                </a:cubicBez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861160" y="1343160"/>
            <a:ext cx="172800" cy="2158920"/>
          </a:xfrm>
          <a:custGeom>
            <a:avLst/>
            <a:gdLst/>
            <a:ahLst/>
            <a:rect l="l" t="t" r="r" b="b"/>
            <a:pathLst>
              <a:path w="109" h="1450">
                <a:moveTo>
                  <a:pt x="55" y="0"/>
                </a:moveTo>
                <a:cubicBezTo>
                  <a:pt x="52" y="13"/>
                  <a:pt x="41" y="46"/>
                  <a:pt x="34" y="78"/>
                </a:cubicBezTo>
                <a:cubicBezTo>
                  <a:pt x="27" y="110"/>
                  <a:pt x="16" y="158"/>
                  <a:pt x="10" y="195"/>
                </a:cubicBezTo>
                <a:cubicBezTo>
                  <a:pt x="4" y="232"/>
                  <a:pt x="2" y="268"/>
                  <a:pt x="1" y="300"/>
                </a:cubicBezTo>
                <a:cubicBezTo>
                  <a:pt x="0" y="332"/>
                  <a:pt x="3" y="362"/>
                  <a:pt x="7" y="387"/>
                </a:cubicBezTo>
                <a:cubicBezTo>
                  <a:pt x="11" y="412"/>
                  <a:pt x="18" y="432"/>
                  <a:pt x="25" y="450"/>
                </a:cubicBezTo>
                <a:cubicBezTo>
                  <a:pt x="32" y="468"/>
                  <a:pt x="41" y="481"/>
                  <a:pt x="49" y="498"/>
                </a:cubicBezTo>
                <a:cubicBezTo>
                  <a:pt x="57" y="515"/>
                  <a:pt x="68" y="527"/>
                  <a:pt x="76" y="552"/>
                </a:cubicBezTo>
                <a:cubicBezTo>
                  <a:pt x="84" y="577"/>
                  <a:pt x="95" y="613"/>
                  <a:pt x="100" y="648"/>
                </a:cubicBezTo>
                <a:cubicBezTo>
                  <a:pt x="105" y="683"/>
                  <a:pt x="109" y="722"/>
                  <a:pt x="106" y="762"/>
                </a:cubicBezTo>
                <a:cubicBezTo>
                  <a:pt x="103" y="802"/>
                  <a:pt x="91" y="849"/>
                  <a:pt x="82" y="888"/>
                </a:cubicBezTo>
                <a:cubicBezTo>
                  <a:pt x="73" y="927"/>
                  <a:pt x="58" y="964"/>
                  <a:pt x="50" y="996"/>
                </a:cubicBezTo>
                <a:cubicBezTo>
                  <a:pt x="42" y="1028"/>
                  <a:pt x="35" y="1053"/>
                  <a:pt x="31" y="1083"/>
                </a:cubicBezTo>
                <a:cubicBezTo>
                  <a:pt x="27" y="1113"/>
                  <a:pt x="25" y="1147"/>
                  <a:pt x="25" y="1176"/>
                </a:cubicBezTo>
                <a:cubicBezTo>
                  <a:pt x="25" y="1205"/>
                  <a:pt x="28" y="1230"/>
                  <a:pt x="31" y="1260"/>
                </a:cubicBezTo>
                <a:cubicBezTo>
                  <a:pt x="34" y="1290"/>
                  <a:pt x="40" y="1327"/>
                  <a:pt x="43" y="1359"/>
                </a:cubicBezTo>
                <a:cubicBezTo>
                  <a:pt x="46" y="1391"/>
                  <a:pt x="49" y="1431"/>
                  <a:pt x="50" y="1450"/>
                </a:cubicBez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7219800" y="1341360"/>
            <a:ext cx="169920" cy="2158920"/>
          </a:xfrm>
          <a:custGeom>
            <a:avLst/>
            <a:gdLst/>
            <a:ahLst/>
            <a:rect l="l" t="t" r="r" b="b"/>
            <a:pathLst>
              <a:path w="109" h="1450">
                <a:moveTo>
                  <a:pt x="55" y="0"/>
                </a:moveTo>
                <a:cubicBezTo>
                  <a:pt x="52" y="13"/>
                  <a:pt x="41" y="46"/>
                  <a:pt x="34" y="78"/>
                </a:cubicBezTo>
                <a:cubicBezTo>
                  <a:pt x="27" y="110"/>
                  <a:pt x="16" y="158"/>
                  <a:pt x="10" y="195"/>
                </a:cubicBezTo>
                <a:cubicBezTo>
                  <a:pt x="4" y="232"/>
                  <a:pt x="2" y="268"/>
                  <a:pt x="1" y="300"/>
                </a:cubicBezTo>
                <a:cubicBezTo>
                  <a:pt x="0" y="332"/>
                  <a:pt x="3" y="362"/>
                  <a:pt x="7" y="387"/>
                </a:cubicBezTo>
                <a:cubicBezTo>
                  <a:pt x="11" y="412"/>
                  <a:pt x="18" y="432"/>
                  <a:pt x="25" y="450"/>
                </a:cubicBezTo>
                <a:cubicBezTo>
                  <a:pt x="32" y="468"/>
                  <a:pt x="41" y="481"/>
                  <a:pt x="49" y="498"/>
                </a:cubicBezTo>
                <a:cubicBezTo>
                  <a:pt x="57" y="515"/>
                  <a:pt x="68" y="527"/>
                  <a:pt x="76" y="552"/>
                </a:cubicBezTo>
                <a:cubicBezTo>
                  <a:pt x="84" y="577"/>
                  <a:pt x="95" y="613"/>
                  <a:pt x="100" y="648"/>
                </a:cubicBezTo>
                <a:cubicBezTo>
                  <a:pt x="105" y="683"/>
                  <a:pt x="109" y="722"/>
                  <a:pt x="106" y="762"/>
                </a:cubicBezTo>
                <a:cubicBezTo>
                  <a:pt x="103" y="802"/>
                  <a:pt x="91" y="849"/>
                  <a:pt x="82" y="888"/>
                </a:cubicBezTo>
                <a:cubicBezTo>
                  <a:pt x="73" y="927"/>
                  <a:pt x="58" y="964"/>
                  <a:pt x="50" y="996"/>
                </a:cubicBezTo>
                <a:cubicBezTo>
                  <a:pt x="42" y="1028"/>
                  <a:pt x="35" y="1053"/>
                  <a:pt x="31" y="1083"/>
                </a:cubicBezTo>
                <a:cubicBezTo>
                  <a:pt x="27" y="1113"/>
                  <a:pt x="25" y="1147"/>
                  <a:pt x="25" y="1176"/>
                </a:cubicBezTo>
                <a:cubicBezTo>
                  <a:pt x="25" y="1205"/>
                  <a:pt x="28" y="1230"/>
                  <a:pt x="31" y="1260"/>
                </a:cubicBezTo>
                <a:cubicBezTo>
                  <a:pt x="34" y="1290"/>
                  <a:pt x="40" y="1327"/>
                  <a:pt x="43" y="1359"/>
                </a:cubicBezTo>
                <a:cubicBezTo>
                  <a:pt x="46" y="1391"/>
                  <a:pt x="49" y="1431"/>
                  <a:pt x="50" y="1450"/>
                </a:cubicBezTo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4902120" y="1341360"/>
            <a:ext cx="69840" cy="2158920"/>
          </a:xfrm>
          <a:custGeom>
            <a:avLst/>
            <a:gdLst/>
            <a:ahLst/>
            <a:rect l="l" t="t" r="r" b="b"/>
            <a:pathLst>
              <a:path w="109" h="1450">
                <a:moveTo>
                  <a:pt x="55" y="0"/>
                </a:moveTo>
                <a:cubicBezTo>
                  <a:pt x="52" y="13"/>
                  <a:pt x="41" y="46"/>
                  <a:pt x="34" y="78"/>
                </a:cubicBezTo>
                <a:cubicBezTo>
                  <a:pt x="27" y="110"/>
                  <a:pt x="16" y="158"/>
                  <a:pt x="10" y="195"/>
                </a:cubicBezTo>
                <a:cubicBezTo>
                  <a:pt x="4" y="232"/>
                  <a:pt x="2" y="268"/>
                  <a:pt x="1" y="300"/>
                </a:cubicBezTo>
                <a:cubicBezTo>
                  <a:pt x="0" y="332"/>
                  <a:pt x="3" y="362"/>
                  <a:pt x="7" y="387"/>
                </a:cubicBezTo>
                <a:cubicBezTo>
                  <a:pt x="11" y="412"/>
                  <a:pt x="18" y="432"/>
                  <a:pt x="25" y="450"/>
                </a:cubicBezTo>
                <a:cubicBezTo>
                  <a:pt x="32" y="468"/>
                  <a:pt x="41" y="481"/>
                  <a:pt x="49" y="498"/>
                </a:cubicBezTo>
                <a:cubicBezTo>
                  <a:pt x="57" y="515"/>
                  <a:pt x="68" y="527"/>
                  <a:pt x="76" y="552"/>
                </a:cubicBezTo>
                <a:cubicBezTo>
                  <a:pt x="84" y="577"/>
                  <a:pt x="95" y="613"/>
                  <a:pt x="100" y="648"/>
                </a:cubicBezTo>
                <a:cubicBezTo>
                  <a:pt x="105" y="683"/>
                  <a:pt x="109" y="722"/>
                  <a:pt x="106" y="762"/>
                </a:cubicBezTo>
                <a:cubicBezTo>
                  <a:pt x="103" y="802"/>
                  <a:pt x="91" y="849"/>
                  <a:pt x="82" y="888"/>
                </a:cubicBezTo>
                <a:cubicBezTo>
                  <a:pt x="73" y="927"/>
                  <a:pt x="58" y="964"/>
                  <a:pt x="50" y="996"/>
                </a:cubicBezTo>
                <a:cubicBezTo>
                  <a:pt x="42" y="1028"/>
                  <a:pt x="35" y="1053"/>
                  <a:pt x="31" y="1083"/>
                </a:cubicBezTo>
                <a:cubicBezTo>
                  <a:pt x="27" y="1113"/>
                  <a:pt x="25" y="1147"/>
                  <a:pt x="25" y="1176"/>
                </a:cubicBezTo>
                <a:cubicBezTo>
                  <a:pt x="25" y="1205"/>
                  <a:pt x="28" y="1230"/>
                  <a:pt x="31" y="1260"/>
                </a:cubicBezTo>
                <a:cubicBezTo>
                  <a:pt x="34" y="1290"/>
                  <a:pt x="40" y="1327"/>
                  <a:pt x="43" y="1359"/>
                </a:cubicBezTo>
                <a:cubicBezTo>
                  <a:pt x="46" y="1391"/>
                  <a:pt x="49" y="1431"/>
                  <a:pt x="50" y="1450"/>
                </a:cubicBezTo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8275680" y="1341360"/>
            <a:ext cx="71280" cy="2158920"/>
          </a:xfrm>
          <a:custGeom>
            <a:avLst/>
            <a:gdLst/>
            <a:ahLst/>
            <a:rect l="l" t="t" r="r" b="b"/>
            <a:pathLst>
              <a:path w="109" h="1450">
                <a:moveTo>
                  <a:pt x="55" y="0"/>
                </a:moveTo>
                <a:cubicBezTo>
                  <a:pt x="52" y="13"/>
                  <a:pt x="41" y="46"/>
                  <a:pt x="34" y="78"/>
                </a:cubicBezTo>
                <a:cubicBezTo>
                  <a:pt x="27" y="110"/>
                  <a:pt x="16" y="158"/>
                  <a:pt x="10" y="195"/>
                </a:cubicBezTo>
                <a:cubicBezTo>
                  <a:pt x="4" y="232"/>
                  <a:pt x="2" y="268"/>
                  <a:pt x="1" y="300"/>
                </a:cubicBezTo>
                <a:cubicBezTo>
                  <a:pt x="0" y="332"/>
                  <a:pt x="3" y="362"/>
                  <a:pt x="7" y="387"/>
                </a:cubicBezTo>
                <a:cubicBezTo>
                  <a:pt x="11" y="412"/>
                  <a:pt x="18" y="432"/>
                  <a:pt x="25" y="450"/>
                </a:cubicBezTo>
                <a:cubicBezTo>
                  <a:pt x="32" y="468"/>
                  <a:pt x="41" y="481"/>
                  <a:pt x="49" y="498"/>
                </a:cubicBezTo>
                <a:cubicBezTo>
                  <a:pt x="57" y="515"/>
                  <a:pt x="68" y="527"/>
                  <a:pt x="76" y="552"/>
                </a:cubicBezTo>
                <a:cubicBezTo>
                  <a:pt x="84" y="577"/>
                  <a:pt x="95" y="613"/>
                  <a:pt x="100" y="648"/>
                </a:cubicBezTo>
                <a:cubicBezTo>
                  <a:pt x="105" y="683"/>
                  <a:pt x="109" y="722"/>
                  <a:pt x="106" y="762"/>
                </a:cubicBezTo>
                <a:cubicBezTo>
                  <a:pt x="103" y="802"/>
                  <a:pt x="91" y="849"/>
                  <a:pt x="82" y="888"/>
                </a:cubicBezTo>
                <a:cubicBezTo>
                  <a:pt x="73" y="927"/>
                  <a:pt x="58" y="964"/>
                  <a:pt x="50" y="996"/>
                </a:cubicBezTo>
                <a:cubicBezTo>
                  <a:pt x="42" y="1028"/>
                  <a:pt x="35" y="1053"/>
                  <a:pt x="31" y="1083"/>
                </a:cubicBezTo>
                <a:cubicBezTo>
                  <a:pt x="27" y="1113"/>
                  <a:pt x="25" y="1147"/>
                  <a:pt x="25" y="1176"/>
                </a:cubicBezTo>
                <a:cubicBezTo>
                  <a:pt x="25" y="1205"/>
                  <a:pt x="28" y="1230"/>
                  <a:pt x="31" y="1260"/>
                </a:cubicBezTo>
                <a:cubicBezTo>
                  <a:pt x="34" y="1290"/>
                  <a:pt x="40" y="1327"/>
                  <a:pt x="43" y="1359"/>
                </a:cubicBezTo>
                <a:cubicBezTo>
                  <a:pt x="46" y="1391"/>
                  <a:pt x="49" y="1431"/>
                  <a:pt x="50" y="1450"/>
                </a:cubicBezTo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932360" y="2776680"/>
            <a:ext cx="3384720" cy="144360"/>
          </a:xfrm>
          <a:custGeom>
            <a:avLst/>
            <a:gdLst/>
            <a:ahLst/>
            <a:rect l="l" t="t" r="r" b="b"/>
            <a:pathLst>
              <a:path w="2132" h="109">
                <a:moveTo>
                  <a:pt x="0" y="43"/>
                </a:moveTo>
                <a:cubicBezTo>
                  <a:pt x="11" y="41"/>
                  <a:pt x="26" y="39"/>
                  <a:pt x="64" y="34"/>
                </a:cubicBezTo>
                <a:cubicBezTo>
                  <a:pt x="102" y="29"/>
                  <a:pt x="178" y="15"/>
                  <a:pt x="226" y="10"/>
                </a:cubicBezTo>
                <a:cubicBezTo>
                  <a:pt x="274" y="5"/>
                  <a:pt x="312" y="1"/>
                  <a:pt x="352" y="1"/>
                </a:cubicBezTo>
                <a:cubicBezTo>
                  <a:pt x="392" y="1"/>
                  <a:pt x="429" y="3"/>
                  <a:pt x="466" y="7"/>
                </a:cubicBezTo>
                <a:cubicBezTo>
                  <a:pt x="503" y="11"/>
                  <a:pt x="549" y="19"/>
                  <a:pt x="577" y="25"/>
                </a:cubicBezTo>
                <a:cubicBezTo>
                  <a:pt x="605" y="31"/>
                  <a:pt x="614" y="37"/>
                  <a:pt x="635" y="43"/>
                </a:cubicBezTo>
                <a:cubicBezTo>
                  <a:pt x="656" y="49"/>
                  <a:pt x="668" y="54"/>
                  <a:pt x="703" y="61"/>
                </a:cubicBezTo>
                <a:cubicBezTo>
                  <a:pt x="738" y="68"/>
                  <a:pt x="796" y="81"/>
                  <a:pt x="847" y="88"/>
                </a:cubicBezTo>
                <a:cubicBezTo>
                  <a:pt x="898" y="95"/>
                  <a:pt x="959" y="103"/>
                  <a:pt x="1012" y="106"/>
                </a:cubicBezTo>
                <a:cubicBezTo>
                  <a:pt x="1065" y="109"/>
                  <a:pt x="1117" y="109"/>
                  <a:pt x="1168" y="106"/>
                </a:cubicBezTo>
                <a:cubicBezTo>
                  <a:pt x="1219" y="103"/>
                  <a:pt x="1273" y="98"/>
                  <a:pt x="1318" y="91"/>
                </a:cubicBezTo>
                <a:cubicBezTo>
                  <a:pt x="1363" y="84"/>
                  <a:pt x="1412" y="71"/>
                  <a:pt x="1441" y="64"/>
                </a:cubicBezTo>
                <a:cubicBezTo>
                  <a:pt x="1470" y="57"/>
                  <a:pt x="1474" y="51"/>
                  <a:pt x="1492" y="46"/>
                </a:cubicBezTo>
                <a:cubicBezTo>
                  <a:pt x="1510" y="41"/>
                  <a:pt x="1523" y="37"/>
                  <a:pt x="1549" y="31"/>
                </a:cubicBezTo>
                <a:cubicBezTo>
                  <a:pt x="1575" y="25"/>
                  <a:pt x="1614" y="15"/>
                  <a:pt x="1648" y="10"/>
                </a:cubicBezTo>
                <a:cubicBezTo>
                  <a:pt x="1682" y="5"/>
                  <a:pt x="1718" y="2"/>
                  <a:pt x="1753" y="1"/>
                </a:cubicBezTo>
                <a:cubicBezTo>
                  <a:pt x="1788" y="0"/>
                  <a:pt x="1822" y="1"/>
                  <a:pt x="1858" y="4"/>
                </a:cubicBezTo>
                <a:cubicBezTo>
                  <a:pt x="1894" y="7"/>
                  <a:pt x="1932" y="14"/>
                  <a:pt x="1969" y="19"/>
                </a:cubicBezTo>
                <a:cubicBezTo>
                  <a:pt x="2006" y="24"/>
                  <a:pt x="2053" y="30"/>
                  <a:pt x="2080" y="34"/>
                </a:cubicBezTo>
                <a:cubicBezTo>
                  <a:pt x="2107" y="38"/>
                  <a:pt x="2121" y="41"/>
                  <a:pt x="2132" y="43"/>
                </a:cubicBezTo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32360" y="1263600"/>
            <a:ext cx="3384720" cy="179280"/>
          </a:xfrm>
          <a:custGeom>
            <a:avLst/>
            <a:gdLst/>
            <a:ahLst/>
            <a:rect l="l" t="t" r="r" b="b"/>
            <a:pathLst>
              <a:path w="2132" h="109">
                <a:moveTo>
                  <a:pt x="0" y="43"/>
                </a:moveTo>
                <a:cubicBezTo>
                  <a:pt x="11" y="41"/>
                  <a:pt x="26" y="39"/>
                  <a:pt x="64" y="34"/>
                </a:cubicBezTo>
                <a:cubicBezTo>
                  <a:pt x="102" y="29"/>
                  <a:pt x="178" y="15"/>
                  <a:pt x="226" y="10"/>
                </a:cubicBezTo>
                <a:cubicBezTo>
                  <a:pt x="274" y="5"/>
                  <a:pt x="312" y="1"/>
                  <a:pt x="352" y="1"/>
                </a:cubicBezTo>
                <a:cubicBezTo>
                  <a:pt x="392" y="1"/>
                  <a:pt x="429" y="3"/>
                  <a:pt x="466" y="7"/>
                </a:cubicBezTo>
                <a:cubicBezTo>
                  <a:pt x="503" y="11"/>
                  <a:pt x="549" y="19"/>
                  <a:pt x="577" y="25"/>
                </a:cubicBezTo>
                <a:cubicBezTo>
                  <a:pt x="605" y="31"/>
                  <a:pt x="614" y="37"/>
                  <a:pt x="635" y="43"/>
                </a:cubicBezTo>
                <a:cubicBezTo>
                  <a:pt x="656" y="49"/>
                  <a:pt x="668" y="54"/>
                  <a:pt x="703" y="61"/>
                </a:cubicBezTo>
                <a:cubicBezTo>
                  <a:pt x="738" y="68"/>
                  <a:pt x="796" y="81"/>
                  <a:pt x="847" y="88"/>
                </a:cubicBezTo>
                <a:cubicBezTo>
                  <a:pt x="898" y="95"/>
                  <a:pt x="959" y="103"/>
                  <a:pt x="1012" y="106"/>
                </a:cubicBezTo>
                <a:cubicBezTo>
                  <a:pt x="1065" y="109"/>
                  <a:pt x="1117" y="109"/>
                  <a:pt x="1168" y="106"/>
                </a:cubicBezTo>
                <a:cubicBezTo>
                  <a:pt x="1219" y="103"/>
                  <a:pt x="1273" y="98"/>
                  <a:pt x="1318" y="91"/>
                </a:cubicBezTo>
                <a:cubicBezTo>
                  <a:pt x="1363" y="84"/>
                  <a:pt x="1412" y="71"/>
                  <a:pt x="1441" y="64"/>
                </a:cubicBezTo>
                <a:cubicBezTo>
                  <a:pt x="1470" y="57"/>
                  <a:pt x="1474" y="51"/>
                  <a:pt x="1492" y="46"/>
                </a:cubicBezTo>
                <a:cubicBezTo>
                  <a:pt x="1510" y="41"/>
                  <a:pt x="1523" y="37"/>
                  <a:pt x="1549" y="31"/>
                </a:cubicBezTo>
                <a:cubicBezTo>
                  <a:pt x="1575" y="25"/>
                  <a:pt x="1614" y="15"/>
                  <a:pt x="1648" y="10"/>
                </a:cubicBezTo>
                <a:cubicBezTo>
                  <a:pt x="1682" y="5"/>
                  <a:pt x="1718" y="2"/>
                  <a:pt x="1753" y="1"/>
                </a:cubicBezTo>
                <a:cubicBezTo>
                  <a:pt x="1788" y="0"/>
                  <a:pt x="1822" y="1"/>
                  <a:pt x="1858" y="4"/>
                </a:cubicBezTo>
                <a:cubicBezTo>
                  <a:pt x="1894" y="7"/>
                  <a:pt x="1932" y="14"/>
                  <a:pt x="1969" y="19"/>
                </a:cubicBezTo>
                <a:cubicBezTo>
                  <a:pt x="2006" y="24"/>
                  <a:pt x="2053" y="30"/>
                  <a:pt x="2080" y="34"/>
                </a:cubicBezTo>
                <a:cubicBezTo>
                  <a:pt x="2107" y="38"/>
                  <a:pt x="2121" y="41"/>
                  <a:pt x="2132" y="43"/>
                </a:cubicBezTo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6614280" y="1569960"/>
            <a:ext cx="1684440" cy="630360"/>
          </a:xfrm>
          <a:custGeom>
            <a:avLst/>
            <a:gdLst/>
            <a:ahLst/>
            <a:rect l="l" t="t" r="r" b="b"/>
            <a:pathLst>
              <a:path w="1061" h="397">
                <a:moveTo>
                  <a:pt x="0" y="330"/>
                </a:moveTo>
                <a:cubicBezTo>
                  <a:pt x="15" y="334"/>
                  <a:pt x="49" y="342"/>
                  <a:pt x="88" y="351"/>
                </a:cubicBezTo>
                <a:cubicBezTo>
                  <a:pt x="127" y="360"/>
                  <a:pt x="183" y="377"/>
                  <a:pt x="232" y="384"/>
                </a:cubicBezTo>
                <a:cubicBezTo>
                  <a:pt x="281" y="391"/>
                  <a:pt x="337" y="397"/>
                  <a:pt x="385" y="396"/>
                </a:cubicBezTo>
                <a:cubicBezTo>
                  <a:pt x="433" y="395"/>
                  <a:pt x="482" y="386"/>
                  <a:pt x="523" y="375"/>
                </a:cubicBezTo>
                <a:cubicBezTo>
                  <a:pt x="564" y="364"/>
                  <a:pt x="590" y="353"/>
                  <a:pt x="634" y="330"/>
                </a:cubicBezTo>
                <a:cubicBezTo>
                  <a:pt x="678" y="307"/>
                  <a:pt x="741" y="268"/>
                  <a:pt x="790" y="234"/>
                </a:cubicBezTo>
                <a:cubicBezTo>
                  <a:pt x="839" y="200"/>
                  <a:pt x="886" y="162"/>
                  <a:pt x="931" y="123"/>
                </a:cubicBezTo>
                <a:cubicBezTo>
                  <a:pt x="976" y="84"/>
                  <a:pt x="1003" y="56"/>
                  <a:pt x="1059" y="0"/>
                </a:cubicBezTo>
                <a:cubicBezTo>
                  <a:pt x="1061" y="288"/>
                  <a:pt x="1061" y="261"/>
                  <a:pt x="1061" y="330"/>
                </a:cubicBezTo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933800" y="1341360"/>
            <a:ext cx="3383280" cy="2158920"/>
          </a:xfrm>
          <a:custGeom>
            <a:avLst/>
            <a:gdLst/>
            <a:ahLst/>
            <a:rect l="l" t="t" r="r" b="b"/>
            <a:pathLst>
              <a:path w="2131" h="1451">
                <a:moveTo>
                  <a:pt x="0" y="1451"/>
                </a:moveTo>
                <a:lnTo>
                  <a:pt x="0" y="0"/>
                </a:lnTo>
                <a:lnTo>
                  <a:pt x="2131" y="0"/>
                </a:lnTo>
                <a:lnTo>
                  <a:pt x="2131" y="14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932360" y="2095560"/>
            <a:ext cx="338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932360" y="2835360"/>
            <a:ext cx="338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308720" y="1341360"/>
            <a:ext cx="0" cy="215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940360" y="1341360"/>
            <a:ext cx="0" cy="215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6568920" y="1464840"/>
            <a:ext cx="144720" cy="14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696000" y="1482840"/>
            <a:ext cx="31680" cy="152280"/>
          </a:xfrm>
          <a:custGeom>
            <a:avLst/>
            <a:gdLst/>
            <a:ahLst/>
            <a:rect l="l" t="t" r="r" b="b"/>
            <a:pathLst>
              <a:path w="20" h="96">
                <a:moveTo>
                  <a:pt x="2" y="0"/>
                </a:moveTo>
                <a:cubicBezTo>
                  <a:pt x="5" y="6"/>
                  <a:pt x="16" y="25"/>
                  <a:pt x="18" y="36"/>
                </a:cubicBezTo>
                <a:cubicBezTo>
                  <a:pt x="20" y="47"/>
                  <a:pt x="19" y="56"/>
                  <a:pt x="16" y="66"/>
                </a:cubicBezTo>
                <a:cubicBezTo>
                  <a:pt x="13" y="76"/>
                  <a:pt x="3" y="90"/>
                  <a:pt x="0" y="96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6676920" y="1370160"/>
            <a:ext cx="416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1" i="1" lang="en-US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688080" y="1844640"/>
            <a:ext cx="144360" cy="14292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424480" y="2098800"/>
            <a:ext cx="93600" cy="93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435640" y="214776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7691400" y="2101680"/>
            <a:ext cx="93600" cy="93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702560" y="215100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575400" y="1347840"/>
            <a:ext cx="93600" cy="93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586560" y="139716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566040" y="2830680"/>
            <a:ext cx="93600" cy="93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576840" y="287964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440320" y="1268280"/>
            <a:ext cx="71640" cy="7164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710480" y="1268280"/>
            <a:ext cx="71280" cy="7164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435640" y="2771640"/>
            <a:ext cx="71280" cy="7164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7705800" y="2771640"/>
            <a:ext cx="71280" cy="71640"/>
          </a:xfrm>
          <a:prstGeom prst="flowChar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080040" y="2200320"/>
            <a:ext cx="1152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Эпюра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rot="5400000">
            <a:off x="6507000" y="2513160"/>
            <a:ext cx="216000" cy="349200"/>
          </a:xfrm>
          <a:prstGeom prst="rightArrow">
            <a:avLst>
              <a:gd name="adj1" fmla="val 47796"/>
              <a:gd name="adj2" fmla="val 56250"/>
            </a:avLst>
          </a:prstGeom>
          <a:solidFill>
            <a:srgbClr val="bbe0e3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049800" y="2952720"/>
            <a:ext cx="1152720" cy="590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Модель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.В.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50920" y="360036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рименение «модели» Л.В. для определения невыгоднейших загру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32000" y="4294080"/>
            <a:ext cx="0" cy="215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63640" y="4294080"/>
            <a:ext cx="0" cy="215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55640" y="5048280"/>
            <a:ext cx="338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755640" y="5786280"/>
            <a:ext cx="338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755640" y="4294080"/>
            <a:ext cx="3382920" cy="2159280"/>
          </a:xfrm>
          <a:custGeom>
            <a:avLst/>
            <a:gdLst/>
            <a:ahLst/>
            <a:rect l="l" t="t" r="r" b="b"/>
            <a:pathLst>
              <a:path w="2131" h="1451">
                <a:moveTo>
                  <a:pt x="0" y="1451"/>
                </a:moveTo>
                <a:lnTo>
                  <a:pt x="0" y="0"/>
                </a:lnTo>
                <a:lnTo>
                  <a:pt x="2131" y="0"/>
                </a:lnTo>
                <a:lnTo>
                  <a:pt x="2131" y="1447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65280" y="6453360"/>
            <a:ext cx="179280" cy="712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65280" y="6451560"/>
            <a:ext cx="17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671480" y="6453360"/>
            <a:ext cx="179640" cy="712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671480" y="6461280"/>
            <a:ext cx="17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052880" y="6453360"/>
            <a:ext cx="179280" cy="712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052880" y="6451560"/>
            <a:ext cx="17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041640" y="6453360"/>
            <a:ext cx="179280" cy="712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041640" y="6461280"/>
            <a:ext cx="17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307280" y="4294080"/>
            <a:ext cx="0" cy="215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938920" y="4294080"/>
            <a:ext cx="0" cy="215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930920" y="5048280"/>
            <a:ext cx="33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930920" y="5786280"/>
            <a:ext cx="33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930920" y="4294080"/>
            <a:ext cx="3382920" cy="2159280"/>
          </a:xfrm>
          <a:custGeom>
            <a:avLst/>
            <a:gdLst/>
            <a:ahLst/>
            <a:rect l="l" t="t" r="r" b="b"/>
            <a:pathLst>
              <a:path w="2131" h="1451">
                <a:moveTo>
                  <a:pt x="0" y="1451"/>
                </a:moveTo>
                <a:lnTo>
                  <a:pt x="0" y="0"/>
                </a:lnTo>
                <a:lnTo>
                  <a:pt x="2131" y="0"/>
                </a:lnTo>
                <a:lnTo>
                  <a:pt x="2131" y="1447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840200" y="6453360"/>
            <a:ext cx="179640" cy="712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840200" y="6451560"/>
            <a:ext cx="17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846760" y="6453360"/>
            <a:ext cx="179280" cy="712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846760" y="6461280"/>
            <a:ext cx="17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8228160" y="6453360"/>
            <a:ext cx="179280" cy="712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8228160" y="6451560"/>
            <a:ext cx="17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7216920" y="6453360"/>
            <a:ext cx="179280" cy="712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7216920" y="6461280"/>
            <a:ext cx="17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932360" y="41371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129280" y="41371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332320" y="41371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533920" y="41371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737320" y="41371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763640" y="41371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932360" y="41371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308720" y="41371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505640" y="41371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709040" y="41371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910640" y="41371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8113680" y="41371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8317080" y="41371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308720" y="413712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952560" y="48830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155600" y="48830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357200" y="48830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560600" y="48830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55640" y="48830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328920" y="48830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532320" y="48830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733920" y="48830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936960" y="48830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132000" y="488304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941480" y="41371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138400" y="41371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341440" y="41371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543040" y="41371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746440" y="41371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949480" y="41371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763640" y="41371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941480" y="56228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138400" y="56228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341440" y="56228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543040" y="56228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746440" y="56228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949480" y="56228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763640" y="56228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6118200" y="48830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315120" y="48830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518160" y="48830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719760" y="48830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923160" y="48830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126200" y="48830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940360" y="48830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940360" y="41371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3132000" y="41371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129280" y="56228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332320" y="56228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533920" y="56228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737320" y="56228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932360" y="56228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7505640" y="56228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7709040" y="56228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910640" y="56228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8113680" y="56228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7308720" y="562284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286240" y="3789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667640" y="3789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103400" y="45417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484440" y="45417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286240" y="5273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7667640" y="5273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469200" y="4535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292480" y="52689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940360" y="5851440"/>
            <a:ext cx="136836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Загру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на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763640" y="5853240"/>
            <a:ext cx="136836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Загру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на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281320" y="3789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7" dur="indefinite" restart="never" nodeType="tmRoot">
          <p:childTnLst>
            <p:seq>
              <p:cTn id="2728" dur="indefinite" nodeType="mainSeq">
                <p:childTnLst>
                  <p:par>
                    <p:cTn id="2729" fill="hold">
                      <p:stCondLst>
                        <p:cond delay="0"/>
                      </p:stCondLst>
                      <p:childTnLst>
                        <p:par>
                          <p:cTn id="2730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33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36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39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42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45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48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51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54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58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6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65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9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0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1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fill="hold">
                      <p:stCondLst>
                        <p:cond delay="indefinite"/>
                      </p:stCondLst>
                      <p:childTnLst>
                        <p:par>
                          <p:cTn id="2773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6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7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8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82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86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7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9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93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9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9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03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06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0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12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3" fill="hold">
                            <p:stCondLst>
                              <p:cond delay="3500"/>
                            </p:stCondLst>
                            <p:childTnLst>
                              <p:par>
                                <p:cTn id="281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16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19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22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2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6" fill="hold">
                      <p:stCondLst>
                        <p:cond delay="indefinite"/>
                      </p:stCondLst>
                      <p:childTnLst>
                        <p:par>
                          <p:cTn id="2827" fill="hold">
                            <p:stCondLst>
                              <p:cond delay="0"/>
                            </p:stCondLst>
                            <p:childTnLst>
                              <p:par>
                                <p:cTn id="28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0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34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37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40" dur="2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43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46" dur="2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49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52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55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58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61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64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67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70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4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5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6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7" fill="hold">
                      <p:stCondLst>
                        <p:cond delay="indefinite"/>
                      </p:stCondLst>
                      <p:childTnLst>
                        <p:par>
                          <p:cTn id="2878" fill="hold">
                            <p:stCondLst>
                              <p:cond delay="0"/>
                            </p:stCondLst>
                            <p:childTnLst>
                              <p:par>
                                <p:cTn id="28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1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2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3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6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7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8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1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2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3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6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7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8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1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2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3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6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7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8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1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2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3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6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7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8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9" fill="hold">
                      <p:stCondLst>
                        <p:cond delay="indefinite"/>
                      </p:stCondLst>
                      <p:childTnLst>
                        <p:par>
                          <p:cTn id="2920" fill="hold">
                            <p:stCondLst>
                              <p:cond delay="0"/>
                            </p:stCondLst>
                            <p:childTnLst>
                              <p:par>
                                <p:cTn id="29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3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4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5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8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9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0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3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4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5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8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9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0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3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4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5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8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9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0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3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4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5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8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9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0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3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4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5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8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9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0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3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4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5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8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9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0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3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4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5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8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9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0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3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4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5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8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9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0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1" fill="hold">
                      <p:stCondLst>
                        <p:cond delay="indefinite"/>
                      </p:stCondLst>
                      <p:childTnLst>
                        <p:par>
                          <p:cTn id="3002" fill="hold">
                            <p:stCondLst>
                              <p:cond delay="0"/>
                            </p:stCondLst>
                            <p:childTnLst>
                              <p:par>
                                <p:cTn id="30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5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6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7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0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1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2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5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6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7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0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1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2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5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6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7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0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1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2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5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6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7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0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1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2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5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6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7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0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1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2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5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6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7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0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1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2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3" fill="hold">
                      <p:stCondLst>
                        <p:cond delay="indefinite"/>
                      </p:stCondLst>
                      <p:childTnLst>
                        <p:par>
                          <p:cTn id="3064" fill="hold">
                            <p:stCondLst>
                              <p:cond delay="0"/>
                            </p:stCondLst>
                            <p:childTnLst>
                              <p:par>
                                <p:cTn id="306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67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70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73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76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79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82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85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88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91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94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97" dur="2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00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03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7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8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9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0" fill="hold">
                      <p:stCondLst>
                        <p:cond delay="indefinite"/>
                      </p:stCondLst>
                      <p:childTnLst>
                        <p:par>
                          <p:cTn id="3111" fill="hold">
                            <p:stCondLst>
                              <p:cond delay="0"/>
                            </p:stCondLst>
                            <p:childTnLst>
                              <p:par>
                                <p:cTn id="31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4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5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6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9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0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1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4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5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6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9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0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1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4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5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6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9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0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1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4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5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6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9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0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1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4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5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6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9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0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1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4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5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6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9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0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1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2" fill="hold">
                      <p:stCondLst>
                        <p:cond delay="indefinite"/>
                      </p:stCondLst>
                      <p:childTnLst>
                        <p:par>
                          <p:cTn id="3173" fill="hold">
                            <p:stCondLst>
                              <p:cond delay="0"/>
                            </p:stCondLst>
                            <p:childTnLst>
                              <p:par>
                                <p:cTn id="3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6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7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8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1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2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3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6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7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8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1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2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3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6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7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8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1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2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3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6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7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8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1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2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3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7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8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9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2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3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4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7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8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9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2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3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4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7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8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9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2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3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4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7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8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9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2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3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4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7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8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9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2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3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4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9"/>
            </a:gs>
            <a:gs pos="100000">
              <a:srgbClr val="c5f4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/>
          </p:nvPr>
        </p:nvSpPr>
        <p:spPr>
          <a:xfrm>
            <a:off x="179280" y="235080"/>
            <a:ext cx="8785440" cy="63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70000"/>
              </a:lnSpc>
              <a:spcBef>
                <a:spcPts val="24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Book Antiqua"/>
              </a:rPr>
              <a:t>К о н т р о л ь н ы е    в о п р о с 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7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( в скобках даны номера слайдов, в которых можно найти ответы на вопрос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7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для перехода к слайду с ответом можно сделать щелчок мышью по номеру в скобках</a:t>
            </a:r>
            <a:r>
              <a:rPr b="1" i="1" lang="ru-RU" sz="1600" spc="-1" strike="noStrike" baseline="30000">
                <a:solidFill>
                  <a:srgbClr val="663300"/>
                </a:solidFill>
                <a:latin typeface="Book Antiqua"/>
              </a:rPr>
              <a:t>*)</a:t>
            </a: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7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для возврата к контрольным вопросам сделать щелчок правой кнопкой мыш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70000"/>
              </a:lnSpc>
              <a:spcBef>
                <a:spcPts val="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и выбрать «Перейти  к  слайду  7»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 Общая формула статического метода построения линии влияния силового факто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статически неопределимой системе;  её варианты при использовании мет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ил, перемещений и смешанного для раскрытия статической неопределимости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( 2 )</a:t>
            </a:r>
            <a:r>
              <a:rPr b="1" lang="ru-RU" sz="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.  Какова особенность линий влияния изгибающих моментов и поперечных си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ОСМП?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( 2 )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.  Подход к построению статическим методом линии влияния силового фактора в СНС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к к задаче многовариантного загруж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) общая идея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( 2 )</a:t>
            </a:r>
            <a:r>
              <a:rPr b="1" lang="ru-RU" sz="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) формулы для матрицы-строки влияния силового фактора с использованием д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счёта СНС методов сил и перемещений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6" action="ppaction://hlinksldjump"/>
              </a:rPr>
              <a:t>( 2 )</a:t>
            </a:r>
            <a:r>
              <a:rPr b="1" lang="ru-RU" sz="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7" action="ppaction://hlinksldjump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 Как формируется матрица влияния нескольких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силовых факторов в СН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 по каким формулам она вычисляется с использованием МС и МП ?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8" action="ppaction://hlinksldjump"/>
              </a:rPr>
              <a:t>( 2 )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9" action="ppaction://hlinksldjump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.  Основные формулы кинематического метода построения линий влияния усил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СНС (общий и частный случаи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0" action="ppaction://hlinksldjump"/>
              </a:rPr>
              <a:t>( 4 )</a:t>
            </a:r>
            <a:r>
              <a:rPr b="1" lang="ru-RU" sz="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.  Как может быть получена кинематическим методом модель линии влияния уси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СНС?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1" action="ppaction://hlinksldjump"/>
              </a:rPr>
              <a:t>( 4 )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2" action="ppaction://hlinksldjump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.  Как используется модель линии влияния силового фактора в СНС для опреде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выгоднейших загружений системы временными нагрузками?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3" action="ppaction://hlinksldjump"/>
              </a:rPr>
              <a:t>( 6 )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4" action="ppaction://hlinksldjump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*)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Только в режиме «Показ слайдов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58640" y="580536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06:55:03Z</dcterms:created>
  <dc:creator>User</dc:creator>
  <dc:description/>
  <dc:language>en-US</dc:language>
  <cp:lastModifiedBy>user</cp:lastModifiedBy>
  <dcterms:modified xsi:type="dcterms:W3CDTF">2011-01-05T11:36:49Z</dcterms:modified>
  <cp:revision>51</cp:revision>
  <dc:subject/>
  <dc:title>Слайд 1</dc:title>
</cp:coreProperties>
</file>